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CAA-F615-4FB9-A8A2-546E709E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D2A-5B3D-44CA-AE06-42B782AD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733-AE1B-45D4-9C35-C1D6D0B9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0E1-3BF1-4016-BFC6-385044B5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6152-2A6A-4C5A-B4E2-F270ABFB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8E6F-1E5D-4EE7-8B29-EEA64F35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5F07-195B-4A82-B230-BB058F64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DB72-0054-4AE5-9292-A6947E63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D87A-F354-473E-B1CA-CED3BF09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9126-CD2D-4953-B825-A596E8EE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9046-3A47-43F9-98BE-52E3DDDA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D47-68AF-4B66-A34B-ED23BF79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D466-2DA0-4269-9A19-C7E06BBF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2803-9291-4C96-8CEF-8583AD23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A83D-0E4C-4935-9BFA-E99C92DF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AD96-7EEC-4218-B8C7-04F5C7F4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84D0-150F-4CCB-9DC9-2CEABC65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C4FA9-6388-4952-99B6-FF45F58E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2F888-001F-4DC5-9AD0-4D4A3CDD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81ED8-5E25-4DF8-85E0-4CF2E0C9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0E2CA-F33A-4897-85EA-F427554C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55CD7-C7FA-4BF6-8936-B0DF605B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A09-8EC5-46DC-A229-4F92FF96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75301-C03E-4E00-88D2-8D19C1E9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61CB-A94C-43AE-AE36-B0AA11DA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CE15-2BAA-4EEE-92EC-B2AB4F53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F0C6-B3AA-4A91-8ECA-735D1C76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6F053-66BB-44A7-83DD-5F7BCC7E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50DF0-C65D-4554-8B14-41A8080D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B339-5A39-41E9-A51E-87FEE2AF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0004D-93AD-436E-95B7-4E04EC3B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8BE33-A0D7-4421-8693-1DC8BD3A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005BB-EE06-4098-9B36-95092F0A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2D2-22C9-48FC-8114-DA081617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55924-E2D7-4AE6-91E7-4A51A4D4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A822B-8D5C-4259-9707-9703B0BE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16D5A-1F20-488B-91B7-572A0846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96356-2624-4DCA-AB19-ED3FC58F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86983-9477-4532-8977-7CD99119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51B39-DD96-4883-869C-AE7FDF82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D5FC8-A2F2-4E80-A2F4-F1A9BBBF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F7649-B3B5-4E8D-BACB-274C2067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6E6A4-5957-481E-896D-B9C94352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9F1-7C08-4DE9-8D47-86A6626C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6E3-E517-4EC6-AD65-0CE900CF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465-9B60-4251-A6F2-CDCE94E8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ACB-99B8-4042-BC63-35B88B08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30B-F164-4D37-A5F3-EFC6053D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F1FC-4EEB-460C-AB79-0300538848D7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F011-A345-4BCA-B3EF-78B300156B7C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3CBF-CAEF-41A7-AF22-D6826745F6D3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D373-CB9C-44E7-B9C6-BF8CE5A9DD33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000" spc="-1" strike="noStrike">
                <a:solidFill>
                  <a:srgbClr val="ebebeb"/>
                </a:solidFill>
                <a:latin typeface="Times New Roman"/>
              </a:rPr>
              <a:t>SEROPROFILAKSA</a:t>
            </a:r>
            <a:br>
              <a:rPr sz="4000"/>
            </a:br>
            <a:r>
              <a:rPr b="0" lang="sr-Latn-CS" sz="4000" spc="-1" strike="noStrike">
                <a:solidFill>
                  <a:srgbClr val="ebebeb"/>
                </a:solidFill>
                <a:latin typeface="Times New Roman"/>
              </a:rPr>
              <a:t>(Zaštita specifičnim imunoglobulinima)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7720" y="1484280"/>
            <a:ext cx="8007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Zbog toga, davanje novih količina heterolognog seruma u cilju produženja zaštite nema svrhe, jer se pri tome stvara povećana opasnost od anafilaktičkih pojava, a heterologna antitela će biti brže razgrađena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i eventualnoj ponovnoj aplikaciji seruma, vreme zaštite se smanjuje, pa u pojedinim slučajevima može trajati samo nekoliko dan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</a:rPr>
              <a:t>Humani serumi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rumi humanog porekla – imunoglobulini (kompletni serumi se danas više ne koriste) dobijaju se iz plazme i seruma odraslih osoba-dobrovoljih davaoca krvi, rekonvalescenata, kao i iz placentarne krvi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z ovih uzoraka izdvajaju s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noglobulini nosioci zaštitnih antitela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koliko preparat sadrži imunoglobuline – antitela protiv više zaraznih bolesti naziva se standardnim ili opštim imunoglobulinom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perimuni specifični imunoglobulin sadrži imunoglobuline – antitela prema određenoj bolesti u visokoj koncentraciji (tetanus, besnilo, hepatitis viroza B)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vi preparati se dobijaju iz krvi vakcinisanih lica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Karakteristike p</a:t>
            </a:r>
            <a:r>
              <a:rPr b="0" lang="sr-Latn-CS" sz="3600" spc="-1" strike="noStrike">
                <a:solidFill>
                  <a:srgbClr val="ebebeb"/>
                </a:solidFill>
                <a:latin typeface="Times New Roman"/>
              </a:rPr>
              <a:t>asiv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g</a:t>
            </a:r>
            <a:r>
              <a:rPr b="0" lang="sr-Latn-CS" sz="3600" spc="-1" strike="noStrike">
                <a:solidFill>
                  <a:srgbClr val="ebebeb"/>
                </a:solidFill>
                <a:latin typeface="Times New Roman"/>
              </a:rPr>
              <a:t> veštačk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g</a:t>
            </a:r>
            <a:r>
              <a:rPr b="0" lang="sr-Latn-CS" sz="3600" spc="-1" strike="noStrike">
                <a:solidFill>
                  <a:srgbClr val="ebebeb"/>
                </a:solidFill>
                <a:latin typeface="Times New Roman"/>
              </a:rPr>
              <a:t> imunitet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sivna zaštita koja se postiže serumima ili imunoglobulinima nastupa brzo, ali je kratkotrajna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matra se da se animalnim serumima postiže zaštita koja traj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-3 nedelj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umani preparati daju nešto dužu zaštitu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4-6 nedelja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Zakon o zaštiti stanovništva od zaraznih bolesti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oje ugrožavaju celu zemlju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z 2016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pisuje obeveznu zaštitu specifičnim imunoglobulinom u profilaksi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tanusa, besnila i hepatitisa B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Vrste serum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logi hiperimuni serum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logi imunoglobulin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logi hiperimuni globulin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oklonska antitel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Hetrologni hiperimuni serumi</a:t>
            </a:r>
            <a:br>
              <a:rPr sz="4000"/>
            </a:b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u serumi koji sadrže frakciju krvi koja sadrži antitela protiv jednog uzročnika ili toksi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gu biti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bakterijsk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virusn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toksični (besnilo, tetanus, botulizam, zmijski ujed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Homologi imunoglobulini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inske frakcije seruma koje se dobijaju mešanjem frakcija antitela klase IgG velikog broja donor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drže antitela protiv svih bolsti koje su prebolela ta lica ili su imunizovan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ovu se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ndardni ili opšti serumi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bili, HAV, Rubeol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ziranje: 0,2-0,4mg na kg telesne ma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sr-Latn-CS" sz="38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Homologi hiperimuni serumi</a:t>
            </a:r>
            <a:br>
              <a:rPr sz="3800"/>
            </a:b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drže visoke titrove specifičnih antitela protiv određenog agensa ili njegovog toksina (tetanus, besnilo, HVB, varičel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bijaju se iz plazme rekonvalescenata ili vakcinisanih osob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zoraju se u IJ na kg telesne mas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TETABULI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um ptotiv tetanus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lučaju tetanogene povrede, pojave prvih simptoma daje se u terapijske svrhe kako bi se sprečila dalja intoksikacija organizm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je od povrede prošlo više od 24 časa propisana doza se udvostručav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avilnik o imunizaciji i načinu zaštite lekovima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iz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17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godine obavezuj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 se za pasivnu imunizaciju upotrebljavaju imunoglobulini humanog porekla (imunoglobulini, hiperimuni gamaglobulini  I monoklonska antitela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Times New Roman"/>
              </a:rPr>
              <a:t>Seroprofilaksa je posebna mera prevencije koja se može koristiti u profilaksi nekog zaraznog oboljenja ali i postekspoziciono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sr-Latn-CS" sz="38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Antirabični serum</a:t>
            </a:r>
            <a:br>
              <a:rPr sz="3800"/>
            </a:b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se ne da odmah sa prvom dozom vakcine, indikovano je davanje do 8. dana od ekspozicije jer već od 7. dana počinje sinteza antitela u organizmu čovek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Hepatitis </a:t>
            </a:r>
            <a:r>
              <a:rPr b="0" lang="en-U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virosa </a:t>
            </a: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B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je se unuta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/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 časa zajedno sa vakcinom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obe koje su imale seksualni kontakt sa osobom koja je zaražena virusom HB, treba da prime serum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jkasnije 14 dana od poslednjeg seksualnog odnosa sa tom osobom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Serum za zaštitu od varičel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enje se može sprečiti ako se unutar 96 sati od kontakt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 serum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ekspoziociona zaštita novorođenčadi ili imunodeficijentne dece čije su majke obolele od varičel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um se daje 5 dana pre i 2 dana po rođenju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noklonska antitel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onovi B limfocita koji produkuju samo jednu vrstu antitel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obiološki preparati sa apsolutnom standardizacijom i specifičnošću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a u terapiji i prevenciji infekcija respiratornim sincicijalnim virusom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budućnosti će zameniti druge imunobiološke preparat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Seroprofilaksa predstavlja primenu preparata krvi (seruma ili drugih frakcija), koji sadrže antitela stvorena u nekom drugom organizmu (čoveku ili životinji)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Na ovaj način nastaje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veštački pasivni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imunitet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Ovaj postupak se koristi u slučajevima kada je potrebno stvoriti brzu zaštitu ugroženih lica, ili kada nema drugih mogućnosti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7720" y="981000"/>
            <a:ext cx="80074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bar i Wiliams su 1953. godine imunoelektroforezom gamaglobulinsku frakciju razdvojili na 3 dela: IgG, IgM i IgA klasu imunoglobulin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s je poznato ukupno 5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klasa (IgE i IgD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 3 klase je dokazano da imaju svojstva zaštitnih antitela (IgG, IgM i IgA)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ziv “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munoglobul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risti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 imunobiološke preparate koji sadrže one proteine krvi koji predstavljaju zaštitna antitela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Veštački pasivni imunite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iže se davanjem gotovih antitela stvorenih u telu druge jedinke, čoveka ili životinj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a pasivne zažtite počela je sa radovima nemačkog bakteriologa Emila Beringa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našao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toksin protiv difterij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Karakteristike imunitet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tova antitela obezbeđuju brzu, efikasnu, ali kratkotrajnu zaštitu, jer se brzo razgrađuju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kovana je primena samo u hitnim slučajevi, neposredne opasnosti od infekcij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Prevencija antitelim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ekspoziciona primena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da postoji rizik  da će neka osoba biti izložena infekcij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tekspoziciona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imena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da je agens već ušao u organizam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Postekspoziciona zaštit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26560" y="1773000"/>
            <a:ext cx="6712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ivna imunizacija- davanje samo seruma, bez davanja vakcin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juje s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lučaju da visok titar gotovih antitela ometa sintezu sopstvenih antitel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vim slučajevima kada vakcina ne postoji, ili je kontraindikovano davanje (trudnoća, laktacija, imunodeficijencija,imunosupresivna terapija)</a:t>
            </a:r>
            <a:r>
              <a:rPr b="0" lang="sr-Latn-CS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raksi se najčešće primenjuje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tiv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-p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iv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unizacija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avanje vakcine i serum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vremeno u suprotne ekstremite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to</a:t>
            </a:r>
            <a:r>
              <a:rPr b="0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štitu povređene osobe od tetanusa, besnila, hepatitisa B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3600" spc="-1" strike="noStrike">
                <a:solidFill>
                  <a:srgbClr val="ebebeb"/>
                </a:solidFill>
                <a:latin typeface="Times New Roman"/>
              </a:rPr>
              <a:t>Animalni serumi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rumi animalnog porekla (heterologni) dobijaju se imunizovanjem životinja (najčešće konja) iz čijeg seruma se spravljaju preparati za primenu u humanoj medicini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Život heterolognih antitela je kraći </a:t>
            </a:r>
            <a:r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(2-4 nedelja)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od homolognih</a:t>
            </a:r>
            <a:r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 (4-6 nedelja)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iz razloga što se 8 do 10 dana po ubrizgavanju stvaraju antitela na strane belančevine, što dovodi do brzog razgrađivanja unetih heterolognih antitela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1:31:58Z</dcterms:created>
  <dc:creator>Intel</dc:creator>
  <dc:description/>
  <dc:language>en-US</dc:language>
  <cp:lastModifiedBy>Natasa Rancic</cp:lastModifiedBy>
  <dcterms:modified xsi:type="dcterms:W3CDTF">2019-06-05T06:42:32Z</dcterms:modified>
  <cp:revision>28</cp:revision>
  <dc:subject/>
  <dc:title>SEROPROFILAKSA (Zaštita specifičnim imunoglobulinim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