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113-EC9C-462F-9033-188F61E2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A3C-F066-456A-BEA9-AC72AB0E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5B0-0026-4A0B-BF85-43EA31A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9A1-0A39-4D26-9E5D-B31A024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DC351-EE47-4532-A24E-7161BB3A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BD436-06E8-4FE1-A3A7-CD82BC29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1A5A-812A-4703-A2FB-5861B2F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C0186-24F1-406A-8678-038223F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73E8-DEE4-412D-BB2F-EB9307F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43C08-D364-4EEF-90A2-06141EA2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1EE5-F531-4498-9B7D-48DAC91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ADE-4C92-4CAD-B21E-200B08E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FCCB4-CF7C-41A7-8C41-97D6944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FD06-5287-47C6-8B0D-0C2C825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A9EF7-CE3B-4E65-96BC-6AB910D3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12D09-D69A-4FC3-8E75-1CF8FF4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C6BFC-6378-4669-BBDF-C34F5061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3CA-6225-422F-9560-A0B7AAD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487-00A2-42F3-899F-DB592190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22C-A588-4E44-9661-415B7AC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F2B-A4D8-4B77-A98E-8186C775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C7D-B2FC-48E9-8532-6B10858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623-D087-42A2-925E-9973C2B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7B4-AAE2-4CC3-A0DE-D4C8E2F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9109-7C46-4FAE-83FD-57DA6710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1C0-72E6-4362-BEBB-D3E7AC653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cc00"/>
                </a:solidFill>
                <a:uFillTx/>
                <a:latin typeface="Times New Roman"/>
              </a:rPr>
              <a:t>Prijavljivanj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va, osnovna protivepidemijska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ilj prijavljivanja je da se upozna epidemiološka služba sa postojanjem neke zarazne bolesti, infekcije ili epidemije, kako bi se omogućilo sprovođenje ostalih protivepidemijs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emiološka služba stiče uvid u raširenost neke bolesti u stanovništvu, omogućava se praćenje kretanja te bolesti tokom određenog vremena (trend), omogućava se primena postojećih ili čak otkrivanje i primena novih profilaktičkih m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t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m prijavom prijavljuje se sumnja da postoji oboljenje od: kolere, kuge, velikih boginja, žute groznice, virusne hemoragijske groznice, SARS-a, poliomijelitisa, difterije, malih boginja, botulizma, kao i pojave nepoznate zarazn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no prijavljivanje vrši se odmah po postavljanju sum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uvođenjem sistema ranog upozoravanja na teritoriji na kojoj zavod ili institut za javno zdrav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e boginje, poliomijelitis uzrokovan divljim sojem polio virusa, influenca novog podtipa koja izaziva oboljenje kod ljudi i S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događajem se podrazumeva pojava sindroma, bolesti, odnosno stanja ili okolnost koja pogoduje nastanku sindroma, bolesti ili st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om prijavom prijavljuje se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oboljenje od zarazn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smrt od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mrt od zarazne bolesti koja nije navedena u članu 2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sumnja da postoji oboljenje od zarazne bolesti utvrđene u članu 6. stav 1. ovog pravilnik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izlučivanje uzročnika trbušnog tifusa i paratifusa (Z 22.0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izlučivanje uzročnika drugih salmoneloza, šigeloza, jersinioza, kampilobakterioza (Z 22.1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nosilaštvo antigena virusnog hepatitisa B (HBsAg – Z 22.5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nosilaštvo antitela na virusni hepatitis C (anti HCV – Z 22.9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jedinač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laboratorijski utvrđen uzročnik ili mikrobiološki marker prisustva uzročnika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nosilaštvo parazita – uzročnika malarije (Z 22.8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nosilaštvo antitela na HIV (anti HIV – Z 2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birn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irnom prijavom prijavljuju se oboljenja slična gripu, akutne respiratorne infekcije i teške akutne respiratorne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u epidemije zarazne bolesti popunjava doktor medicine specijalista epidemiologije iz zavoda, odnosno instituta za javno zdravlje koji utvrdi epidem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ja zarazne bolesti prijavljuje se odmah, a najkasnije u roku od tri dana od dana kada je epidemija utvrđ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javi epidemije zarazne bolesti nastale upotrebom životnih namirnica i vode poreklom iz objekata pod sanitarnim nadzorom, odmah se putem telefona, elektronskom poštom ili na drugi način pogodan za brzo obaveštavanje, obaveštava i organ uprave nadležan za poslove sanitarnog nadzora na teritoriji na kojoj je epidemija utvrđe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javljivanje vrši lekar koji je postavio dijagnozu u roku od 24 časa ili odmah, na osnovu kliničke slike i laboratorijske dijagn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java epidem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java epidemije zarazne bolesti vrši se po isteku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vostrukog najdužeg inkubacionog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a određenog za zaraznu bolest koja je prouzrokovala epidem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000"/>
                </a:solidFill>
                <a:latin typeface="Times New Roman"/>
              </a:rPr>
              <a:t>Prijavljivanje masovnih hroničnih ne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kon iz 1980. god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javljuju se: rak i leukemije, ishemijska bolest srca, šećerna bolest, psihoze, depresija, narkomanija, mišićne distrofije, reumatska groznica, hronična bubrežna insuficijencija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Regist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popunjava lekar koji je postavio dijagnoz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u dostavlja epidemiološkoj službi (Dom zdravlja, zavod za javno zdravlje, Institut za javno zdravl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e se unose u registre (elekteronske baze podatak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rak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akutni koronarni sindrom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pulacioni registar za šećernu bolest Srb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Strategija za prevenciju i kontrolu masovnih hroničnih nezaraznih bolesti Republike Sr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Strategija za prevenciju i kontrolu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 nezaraznih bolesti (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HNB) Republike Srbij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redstavlja sveobuhvatnu strategiju unapr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enja zdravlja stanovništva Srbije, kako dece tako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drasl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ktivno je usmerena na grupe i pojedince sa po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nim rizikom od nastanka hron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ih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ezaraznih bolesti, kao i na ve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obolele od HNB kojima su neophodni efikasno lecenje I</a:t>
            </a:r>
            <a:r>
              <a:rPr b="1" lang="sr-Latn-C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dekvatna ne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vni ciljev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je su z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jno smanjenje obolevanja i umiranja stanovnika Srbije od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B, poboljšanje njihovog kvaliteta života i smanjenje nejednakosti u zdravl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jom su obuhv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 kardiovaskularne bolesti, maligni tumori, dijabetes, hron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struktivna bolest pluca i bolesti muskuloskeletnog sistema (bez povreda), jer ove HNB v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ijama cine veliki deo opterecenja bolestima u Srbiji, a imaju zajednicke faktore riz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ušenje, konzumiranje alkohola, nepravilna ishrana i fizicka neaktivnost) i socijalno-ekonomsk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 određene bolesti (ehinokokoza, besnilo, bruceloza, antraks, salmoneloza, leptospiroza, trihineloza, tularemija, Q-groznica, sakagija) obaveštava se i veterinarska inspekci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cc00"/>
                </a:solidFill>
                <a:latin typeface="Times New Roman"/>
              </a:rPr>
              <a:t>PUT PRIJ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java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→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knjiga evidencije zaraznih bole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epidemiološka služba (HES ili epidemiolog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               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Institut za javno zdravl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aveznom prijavljivanju u smislu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Zakona o zaštiti stanovništva od zaraznih bolesti (član 24)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odležu sledeći slučajev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obolen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odnosno smrt 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mrt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um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da postoji obolenje od kolere, kuge, velikih boginja, žute groznice, sars-Avirusnih hemoragičnih groznica, poliomijelitisa, difterije, malih boginja i botulizma, KAO I POJAVA NEPOZNATE ZARAZNE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epidem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izlučivanje uzročnik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trbušnog tifusa, paratifusa, drugih salmoneloza, šigeloza, jersinioza, kampilobakterioza, kao i nosilaštvo antigena virusnog hepatitisa B, prisustvo antitela na virusni hepatitis C, antitela na HIV i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nosilaštv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arazita uzročnika malarij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gućnost infekcije virusom besnil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hospitalne infekci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bolnička infekcija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rezistencija bakterija na antimikrobne lekov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laboratorijski utvrđen uzročnik zarazne bolest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akutna flakcidna paraliza (AF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Svaki neuobičajeni događaj koji može ukazivati na upotrebu bioškog age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vaka sumnja na pojavu zarazne bolesti koja odgovara definiciji opasnosti po zdravlje iz međunarodnog pravil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eželjena reakcija posle imuniz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o prijavljivanje slučajeva oboljenja, odnosno smrti od zarazne bolesti vrši se na sledeći nač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nult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hit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sistemom za rano upozoravanje i hitno reagovanje (u daljem tekstu: ALERT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pojedinačnom prijav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zbirnom prijav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lta prijav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tom prijavom prijavljuje se odsustvo/prisustvo akutne flakcidne paralize (AFP), malih boginja, kongenitalne rubele, drugih zaraznih bolesti i drugih slučajeva, u skladu sa međunarodnim sanitarnim konvencijama i potvrđenim međunarodnim ugovorima i program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Natasa Rancic</cp:lastModifiedBy>
  <dcterms:modified xsi:type="dcterms:W3CDTF">2017-10-26T07:31:14Z</dcterms:modified>
  <cp:revision>41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