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8CC-8FEF-400F-8C05-C6BB0876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50B-7C27-4495-B3A1-593FCDB1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E66-D749-4B23-881C-E2FE2C64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411-5AA7-4643-B1D8-ACF0F832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F05-98C9-40C0-91A1-41825BC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EAC-9263-45EF-9312-0CEFC89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019-37F6-49F3-9CE7-3DFAB98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4CE-2B1E-498B-A2B7-5A10ABF0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764-C036-4D46-A03C-60AB831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709-26C4-4F14-B035-BF37B98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D8B-5437-4C0F-8650-B3969CC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FFE-6A17-47A2-B7C3-049687A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341-D5D3-43B5-BAE5-F414BCCCD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ijavljivanje masovnih zaraznih i masovnih nezaraznih bolest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om prijavom prijavljuje 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ljenje od zarazne boles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zuzev oboljenja od zaraznih bolesti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e se prijavljuju zbirnom prija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 od zaraz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mrt od zarazne bolesti koja nije navedena u članu 2. ovog pravilnik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postoji oboljenje od zarazne bolesti utvrđene u članu 7. stav 1. ovog pravilnik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lučivanje uzročnik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bušnog tifusa i paratifusa (Z 22.0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izlučivanje uzročnika drugih salmoneloza, šigeloza, jersinioza, kampilobakterioza (Z 22.1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ilaštv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gena virusnog hepatitisa B (HBsAg - Z 22.5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nosilaštvo antitela na virusni hepatitis C (anti HCV - Z 22.9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nosilaštvo parazita - uzročnika malarije (Z 22.8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nosilaštvo antitela na HIV (anti HIV - Z 21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kojom se prijavljuju slučajevi utvrđeni u stavu 1. tač. 1) do 8) ovog člana podnosi se na Obrascu br. 1 (Obr. br. DI-07/1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kojom se prijavljuje oboljenje, odnosno smrt od malarije, kao i nosilaštvo parazita - uzročnika malarije podnosi se na Obrascu br. 6 (Obr. br. DI-07/6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edinačna prijava nosilaštva antitela na HIV, oboljenje, odnosno smrt od HIV bolesti, podnosi se na Obrascu br. 10 (Obr. br. DI-08/7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zarazne bolesti vrši se na osnovu kliničke, odnosno laboratorijske dijagnoze, a prema definiciji slučaja i na osnovu stručno-metodološkog uputstva u skladu sa Zakon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se prijavljivanje zarazne bolesti vrši na osnovu kliničke dijagnoz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ojedinačna prijava podnosi se u roku od 24 sata od postavljanja dijagnoz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je, u cilju postavljanja dijagnoze, preduzeto i laboratorijsko ispitivanje, prijava zarazne bolesti podnosi se u rok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od 24 sata od dobijanja konačnih laboratorijskih nalaza.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ijagnoza zarazne bolesti upisuje se na latinskom jeziku i šifrira prema važećoj Međunarodnoj klasifikaciji bolesti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ve 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vljaju institutu, odnosno zavodu za javno zdravl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ritoriji na kojoj je utvrđeno: oboljenje, odnosno smrt od zarazne bolest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t od bilo koje zarazne bolesti koja nije utvrđena u članu 2. ovog pravilnik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da postoji oboljenje od kolere, kuge, velikih boginja, žute groznice, virusnih hemoragičkih groznica, poliomijelitisa, difterije, malih boginja i botulizma; izlučivanje uzročnika trbušnog tifusa, paratifusa, drugih salmoneloza, šigeloza, jersinioza, kampilobakterioza, nosilaštvo antigena virusnog hepatitisa B, nosilaštvo antitela na virusni hepatatis C, nosilaštvo antigela na HIV i nosilaštvo parazita - uzročnika malarije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u epidemije zarazne bolesti popunjava doktor medicine, epidemiolo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nstituta, odnosno zavoda za zaštitu zdravlja koji utvrdi epidemiju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a iz stava 1. ovog člana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odnosi se Institutu za zaštitu zdravlja Srbij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, na Obrascu br. 2 (Obr. br. DI-07/2)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Epidemija zarazne bolesti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prijavljuje se odmah, a najkasnije u roku od tri dan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od dana kada je epidemija utvrđena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 pojavi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epidemije zarazne bolesti nastale upotrebom životnih namirnica i vod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poreklom iz objekata pod sanitarnim nadzorom,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mah se putem telefona, u elektronskom obliku, telegrama, teleks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li na drugi način pogodan za brzo obaveštavanje, obaveštava i organ uprave nadležan za poslove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sanitarnog nadzor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na teritoriji na kojoj je epidemija utvrđena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u epidemije zarazne bolesti popunjava doktor medicine, epidemiolo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 instituta, odnosno zavoda za zaštitu zdravlja koji utvrdi prestanak epidemij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a epidemije iz stava 1. ovog člana podnosi se Institutu za zaštitu zdravlja Srbije, na Obrascu br. 3 (Obr. br. DI-07/3).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Odjava epidemije zarazne bolesti vrši se po isteku dvostrukog najdužeg inkubacionog perioda određenog za zaraznu bolest koja je prouzrokovala epidemiju.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mogućnosti infekcij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virusom besnil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doktor medicine zdravstvene ustanove - antirabične stanice koji utvrdi mogućnost infekcije virusom besnil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podnosi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asterovom zavodu u Novom Sa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, na Obrascu br. 5 (Obr. br. DI-07/5), odmah po završetku antirabičnog tretmana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bolničke infekc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doktor medic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zdravstvene ustanove u kojoj je bolnička infekcija nastal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podnosi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Komisiji za zaštitu od bolničkih infekcij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brazovanoj radi sprovođenja nadzora nad bolničkim infekcijama u ustanovi u kojoj je bolnička infekcija nastala, na Obrascu br. 7 (Obr. br. DI-07/7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Komisija za zaštitu od bolničkih infekcija iz stava 2. ovog člana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potvrđenoj bolničkoj infekciji dostavlja mesno nadležnom institutu, odnosno zavodu za zaštitu zdravlja, u roku od tri da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d dana kada je bolnička infekcija potvrđena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o laboratorijski utvrđenom uzročniku zarazne boles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opunjava doktor medicin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ikrobio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laboratorije u kojoj je utvrđen uzročnik zarazne bolesti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1. ovog član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odnosi se institutu, odnosno zavodu za zaštitu zdravlj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na teritoriji na kojoj se nalazi laboratorija koja je utvrdila uzročnika zarazne bolesti, na Obrascu br. 8 (Obr. br. DI-07/8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laboratorijski utvrđenog uzročnika zarazne bolesti vrši se u roku o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24 sa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od trenutka utvrđivanja uzročnika - ako su u pitanju zarazne bolesti koje se prijavljuju pojedinačnom prijavom, odnosno u roku o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edam da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- ako su u pitanju zarazne bolesti koje se prijavljuju zbirnom prijavom, a za koje je utvrđivanje uzročnika zarazne bolesti neophodno za postavljanje dijagnoze (šarlah, polna hlamidijaza, streptokokni faringitis i tonzilitis i grip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Rezistencija drugih bakterija na antimikrobne leko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prijavljuje s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Institutu za zaštitu zdravlja Srb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, stručno-metodološkim uputstvima u skladu sa programima za odstranjivanje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korenjivan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zaraznih bolesti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je lice obolelo od zarazne bolesti za koju je u skladu sa zakonom obavezno epidemiološko ispitivanje, a nema prebivalište na teritoriji na kojoj se bolest pojavila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kopija pojedinačne prijave o oboljenju od zarazne bolesti kao i kopija laboratorijski utvrđenog uzročnika zarazne bolesti, dostavljaju se institutu, odnosno zavodu za zaštitu zdravlja na teritoriji na kojoj to lice ima prebivališ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o zdravstvena ustanova u koju je obolelo lice upućeno radi lečenja, izolacije ili izolacije i lečenja, utvrdi dijagnozu kojom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menja prvobitno prijavljena dijagnoza, dužna je da o promeni dijagnoze obavesti institut, odnosno zavod za zaštitu zdravlja kojem je prijavljena prvobitno postavljena dijagnoza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ijavljivanje zaraznih bolest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novna protivepidemijska m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konski 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lnik o prijavljivanju zaraznih bolesti I posebnih zdravstvenih pitanj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Službeni glasnik RS ", broj  44 оd 9. maja  2017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vim pravilnikom bliže se uređuj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bavezno prijavljivanje zarazne bolesti, odnosno smrti od zarazne bolesti i prijavljivanje drugih slučajeva koji, u skladu sa Zakonom o zaštiti stanovništva od zaraznih boles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Zakona o zaštiti stanovništva od zaraznih bolesti („Službeni glasnik RS”, broj 15/16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odležu obaveznom prijavljivanju, određuju se rokovi, način i obrasci za njihovo prijavljivanje, zdravstvene ustanove i državni organi kojima se prijave dostavlja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3809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2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mrt od zarazne bolesti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koja nije navedena u članu 2. Zakon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3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umn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da postoji oboljenje od kolere, kuge, velikih boginja, žute groznice, virusnih hemoragičkih groznica, poliomijelitisa, difterije, malih boginja i botulizm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4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epidem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5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izlučivanje uzročnik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trbušnog tifusa, paratifusa, drugih salomoneloza, šigeloza, jersinioza, kampilobakterioza, kao i nosilaštvo antigena virusnog hepatitisa B, nosilaštvo antitela na virusni hepatitis C, antitela na HIV i nosilaštvo parazita - uzročnika malarije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6) mogućnost infekcije virusom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besnila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7) infekcija unutar zdravstvenih ustanova (u daljem tekstu: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bolnička infekc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8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rezistencija bakterij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na antimikrobne lekove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9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laboratorijski utvrđen uzročnik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10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akutna flakcidna paraliz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11) </a:t>
            </a:r>
            <a:r>
              <a:rPr b="1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sumnja na upotrebu biološkog agensa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  <a:ea typeface="Tahoma"/>
              </a:rPr>
              <a:t>.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ačini prijavljivanj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bavezno prijavljivanje oboljenja, odnosno smrti od zarazne bolesti vrši se na sledeći način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nult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zbir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3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hit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4) sistemom za rano upozoravanje i hitno reagovanje (u daljem tekstu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5)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pojedinačnom prijav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Nultom prijav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prijavljuje 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sustv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kutne flakcidne paralize, malih boginja - morbila, kongenitalne rubeo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i drugih zaraznih bolesti i drugih slučajeva, u skladu sa međunarodnim sanitarnim konvencijama i potvrđenim međunarodnim ugovorima i programim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ostupak prijavljivanja nultom prijavom vrši se prema stručno-metodološkim uputstvima, izrađenim u skladu sa programima za odstranjivanje i iskorenjivanje zaraznih bolesti, a na obrascu napravljenom u skladu sa preporukama Svetske zdravstvene organizacij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u iz stava 1. ovog člana popunjav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oktor medic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koji je utvrdio oboljenje zarazne bolesti iz stava 1. ovog člana na Obrascu br. 4 (Obr. br. DI-07/4)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ačno prijavljivanje dijagnoze zarazne bolesti  prijavljuje se na Obrasc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birna prijav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rnom prijavom prijavljuju se oboljenja slična gripu, akutne respiratorne infekcije i teške akutne respiratorne infekcije u skladu sa stručno-metodološkim uputstvom Zavoda, koje se ažurira svake godine pred početak nadzora nad gripom u skladu sa smernicama SZO i Evropskog centra za prevenciju i kontrolu bole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a iz stava 2. ovog člana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dnosi se jedanput nedelj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nstitutu, odnosno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vodu za zaštitu zdravlja na teritoriji na kojoj je zarazna bolest utvrđena, u roku od 48 sati od poslednjeg dana u nedelji za prethodnu nedelju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nom prijavo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vljuje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nja da postoji oboljevanje od: kolere, kuge, velikih boginja, žute groznice, virusnih hemoragičkih groznica, poliomijelitisa, difterije, malih boginja i botuliz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no prijavljivanje vrši 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ah po postavljanju sumnj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postoji oboljenje od zarazne bolesti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fonom, telegramom, teleksom, u elektronskom obliku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 na drugi način pogodan za hitno obaveštavanje, uz istovremeno podnošenje pojedinačne prijave sumnje da postoji to oboljen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ačno postavljena dijagnoza zarazne bolesti prijavljuje se podnošenjem pojedinačne prijave na Obrascu br. 1 (Obr. br. DI-07/1)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LER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se sprovodi na teritoriji na kojoj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nstitut, odnosno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vod za zaštitu zdravlja, odnosno Institut za zaštitu zdravlja Srbije, proceni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da postoji opasnost o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1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epidemija zarazni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bolesti u elementarnim nesrećama, katastrofama i organizovanim masovnim okupljanjima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širenja epidemi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i posle preduzimanja protivepidemijskih mera za vreme trajanja epidemije zarazne bolesti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3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nove ili nedovoljno poznate zarazne boles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4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ojave nedovoljno definisanih simptoma i stan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5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biološkog agens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, u slučaju sumnje na upotrebu tog agens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Prijavljivanje ALERT-om počinje odmah po saznanju da postoji opasnost od nastanka slučaja utvrđenog u stavu 1. ovog član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Organizaciju, učesnike i postupke u sistemu prijavljivanja ALERT-om određuje zdravstvena ustanova iz stava 1. ovog člana koja proceni da postoji opasnost od nastanka slučaja utvrđenog u stavu 1. ovog člana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ALERT se sprovodi sve vreme dok postoje razlozi utvrđeni u stavu 1. ovog član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35:37Z</dcterms:created>
  <dc:creator>IZJZ</dc:creator>
  <dc:description/>
  <dc:language>en-US</dc:language>
  <cp:lastModifiedBy>win7</cp:lastModifiedBy>
  <dcterms:modified xsi:type="dcterms:W3CDTF">2016-12-31T09:16:49Z</dcterms:modified>
  <cp:revision>35</cp:revision>
  <dc:subject/>
  <dc:title>PRAVILNIK O PRIJAVLjIVANjU ZARAZNIH BOLESTI I DRUGIH SLUČAJEVA UTVRĐENIH ZAKONOM O ZAŠTITI STANOVNIŠTVA OD ZARAZNIH BOLESTI (Objavljen u "Sl. glasniku RS", br. 98 od 15. novembra 2005; 107/2005)</dc:title>
</cp:coreProperties>
</file>