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AEE3-40C9-4D6B-9BDE-74366BA6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3248-263C-4A4E-B80D-69095B98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18D-4E96-4EF3-AB7E-713D00ED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44A-578C-488A-B888-80137A0A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599C-6E0C-4717-B2FD-FB77FED3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64D6-2828-48A3-ADCE-C397A932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0745-90CC-4CAA-B114-0E9C5514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D3DE-7455-4062-9AC7-BF1858D5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80E5-1EEC-4A23-A797-EF476AD4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0BBA-9702-4277-97F2-AFF46A84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6ECD-2004-4D8D-AA41-926DE339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A163-5E40-42C2-9610-009E4345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38F0-3BA1-4854-808B-EA9D1642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2933-72BE-4106-9BDE-15D7FCB0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5319-5E5B-4841-A54A-4B42F96A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4D0A-796E-46E5-B369-A3577909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A6AE-5A7D-43E1-87B4-4A10DFE0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58D5-BEBA-4777-AC8B-1D12603A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25CA-8E16-4DCB-8A1E-0C8D0571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49EC-4BC7-42EB-814F-962069D2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25B-53F2-4A61-8BB2-1824951E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D32-D7CF-4EF9-A7D8-13EF1460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46BC-336E-4840-B4E1-B5611CC8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B506-E375-469C-B65D-6ECEED91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0DD3-89D0-4579-B372-7ED6C1063D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EBDD-FDC4-4757-B1B8-8194DB3CFA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Times New Roman"/>
              </a:rPr>
              <a:t>ČUVANJE I TRANSPORT VAKCINA "HLADNI LANAC"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ransport i čuvanje vakcina pod određenim temperaturnim uslovima od proizvođača preko distributera do krajnjeg korisnika zove se hladni lana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z 1997. (Odluka o imunizacijama, Službeni list SRJ 27/97) odredbe o hladnom lanc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ežim hladnog lanca strožiji je kada su u pitanju žive vakcine, naročit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d osetljivih virusa kao što su morbili, parotitis i rubeola, kao i za poliovirusnu vakcin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Blaži kriterijumi za BCG vakcinu, mrtve vakcine i toksoide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Jedina stabilna vakcina na višim temperaturama vakcina protiv akutnog hepatitisa B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ve vakcine treba da se čuvaju u specijalnim frižiderima, ali ako ih nema, onda u običnim frižiderima za domaćinstvo, ali je obavezno prisustvo termometr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emperatura mora da bude između 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 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Hladni lanac se kontroliše primenom određenih indikatora promene temperature tzv. monitorim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vaka zdravstvena ustanova mora da koristi rashladne uređaje za čuvanje i transport vakcina, a u tim uređajima moraju da postoje indikatori temperature (termometri ili monitor-kartice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onitor-kartica je karton u kome se upisuju podaci o vakcini (datum, vrsta i serija, lokacija), počevši od proizvođača, preko distributera do krajnjeg korisnika(onog ko primenjuje vakcinu), tj. na svim karikama hladnog lan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toji i jedna specijalna traka sa otvorima obeleženim slovima A, B, C i D. Ova traka se aktivira kada vakcina počinje put od proizvođača koji je aktivira, ka korisniku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va kartica je neprekidno uz vakcinu, do utroška poslednje doze. Hemijska traka je osteljiva na temperaturu iznad 1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stepeni i počinje da dobija plavu boju, od mesta gde je aktivirana, odnosno od otvora 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ema širenju plave boje može se zaljkučiti koliko dugo je vakcina transportovana i kojoj temeraturi je bila izložen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tvori A,B,C odnose se na temperature iznad 12° C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tvor D je specifičan i pokazuje da li je vakcina bila čak i kratkotrajno (najmanje 2 sata) izložena temperaturi višoj od 34° 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vi podaci na monitor kartici o kritičnoj temperaturi u toku transporta odnose se samo na više nedozvoljene temperat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o se radi o nižim temeperaturama ispod 0°C, onda se to kontroliše specijalnim dodatkom tzv. «friz voč» monitorom, jednom cevčicom sa rezervoarom napunjenim crvenim mastilom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vaj «friz voč» se nalepi na monitor karticu, a koristi se u toku zimskih meseci kada se očekuju niske temperatur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Mehanizam ove kontrole je takav da cevčica puca na temperaturi ispod minus 4°C u toku jednog sata i oboji crveno ograničeno polje na monitor kartic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va kontrola temperature niže od 0°C bitna je zbog opasnosti od zamrzavanja mrtvih i toksoidnih vakcina u tečnom stanju, koje ne smeju da se zamrzavaj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o je «friz voč» proliven, odnosno, ako je neka od ovih vakcina bila zamrznuta, ona nije više za upotreb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9:49:53Z</dcterms:created>
  <dc:creator>Intel</dc:creator>
  <dc:description/>
  <dc:language>en-US</dc:language>
  <cp:lastModifiedBy>win7</cp:lastModifiedBy>
  <dcterms:modified xsi:type="dcterms:W3CDTF">2004-11-18T12:12:19Z</dcterms:modified>
  <cp:revision>8</cp:revision>
  <dc:subject/>
  <dc:title>ČUVANJE I TRANSPORT VAKCINA "HLADNI LANAC"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