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155B-FF3D-4BF3-B808-9E738486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8D88-9C41-48D5-9999-2899D78A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7672-CE41-45F6-A044-FB663D53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B89-2ED9-4265-9298-73C8EC85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70DD5-E5A2-48CC-A67F-CEFE7C59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46400-926D-4A7E-868F-FA20D0BE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935B8-424A-47F2-B9A7-5D37F199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39FD5-0742-4821-AE5E-A5D1D3DD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65FEA-E84C-47BA-90FE-0D4E30FC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C1F6D-4FFC-4E75-A69D-77EA0C46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DD182-5BD7-400D-90C8-BED92A24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B533-3B68-49AE-9869-3EAB2C31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17E96-5B42-45BA-A3C1-29DDE99C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731BB-C30D-47EE-BBBD-719942BC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76ADD-985E-4A38-9E9A-4070A84B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24267-1D4D-4E63-8B24-711BA4DE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18A3B-628D-4128-BB35-BB1B6840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1DB6-D301-4EC2-BA1C-BC7744B2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4A41-DC77-493C-98D0-E9AC25C1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3C3-D8A2-4E2F-9614-8AD0907D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E2B1-5A2C-47FA-B1D1-783C60BA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164-F413-4A76-855C-88FC9CC1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1AF-8E30-426C-92CE-8CE3CA99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5F9-1661-4B7C-991C-69F4AB30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1CD0-B9DB-421A-A4DC-AF1B3CAF997A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548F-9287-4A6A-AFF4-556D5D9F058A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  <a:ea typeface="Tahoma"/>
              </a:rPr>
              <a:t>MERE </a:t>
            </a:r>
            <a:r>
              <a:rPr b="1" lang="sr-Latn-CS" sz="4400" spc="-1" strike="noStrike">
                <a:solidFill>
                  <a:srgbClr val="ffcc00"/>
                </a:solidFill>
                <a:latin typeface="Tahoma"/>
                <a:ea typeface="Tahoma"/>
              </a:rPr>
              <a:t>PROFILAKS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  <a:ea typeface="Tahoma"/>
              </a:rPr>
              <a:t>E</a:t>
            </a:r>
            <a:r>
              <a:rPr b="1" lang="sr-Latn-CS" sz="4400" spc="-1" strike="noStrike">
                <a:solidFill>
                  <a:srgbClr val="ffcc00"/>
                </a:solidFill>
                <a:latin typeface="Tahoma"/>
                <a:ea typeface="Tahoma"/>
              </a:rPr>
              <a:t> ZARAZNIH BOLEST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Opšte mere mere organizuju i sprovode nadlezni organi i druga pravna lica, kao i nadležne zdravstvene ustanove.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  Staranje o izvršavanju opštih mera je u domenu sanitarnih inspektorata.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  Opšte profilaktičke mere kod nekih bolesti predstavljaju radikalne mere npr. kod crevnih zaraznih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47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3200"/>
            </a:br>
            <a:r>
              <a:rPr b="1" lang="sr-Latn-CS" sz="3200" spc="-1" strike="noStrike">
                <a:solidFill>
                  <a:srgbClr val="ffcc00"/>
                </a:solidFill>
                <a:latin typeface="Arial"/>
                <a:ea typeface="Tahoma"/>
              </a:rPr>
              <a:t>POSEBNE MERE</a:t>
            </a:r>
            <a:br>
              <a:rPr sz="3200"/>
            </a:br>
            <a:br>
              <a:rPr sz="32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1. rano otkrivanje izvora, rezervoara i puteva prenošenja zaraze;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2. epidemiološko ispitivanje i istraživanje;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3. laboratorijsko ispitivanje radi utvrđivanja uzročnika zarazne bolesti;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4. postavljanje dijagnoze zarazne bolesti;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5. prijavljivanje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6. prevoz , izolacija i lečenje;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7. zd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vstveni nadzor i karantin;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8. imunizacija i hemioprofilaksa;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9. dezinfekcija, dezisekcija i deratizacija po epidemiološkim indikacijama;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10. zdravstveni pregledi određenih kategorija zaposlenih lica u objektima pod sanitarnim nadzorom, kao i određenih kategorija stanovništva radi utvrđivanja nosilaštva uzročnika zaraznih bolesti;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11. zdravstveno vaspitanje i obrazovanje određenih kategorija zaposlenih lica;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12. informisanje zdravstvenih radnika i stanovništva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Tahoma"/>
              </a:rPr>
              <a:t>Rano otkrivanje izvora, rezervoara i puteva prenošenja zaraznih bolesti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Sprovodi se epidemiološkim ispitivanjem, u skladu sa definicijama slučaja i stručno-metodološkim upustvima i aktivnim pronalaženjem tipičnih i atipičnih slučajeva i osoba pod rizikom, kao i laboratorijskim ispitivanjem uzoraka vode, hrane, vektora i drugih uzoraka iz životne sredine, a u cilju prenošenja bolesti na osetljive osobe i suzbijanja zarazne bolesti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Tahoma"/>
              </a:rPr>
              <a:t>Epidemiološko ispitivanje i istraživanje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cc00"/>
                </a:solidFill>
                <a:latin typeface="Arial"/>
                <a:ea typeface="Tahoma"/>
              </a:rPr>
              <a:t>Epidemiološko ispitivanje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 sprovodi se radi utvrđivanja faktora koji su doprineli nastanku zarazne bolesti i/ili prenošenju, kao i radi otkrivanja epidemije zarazne bolesti, utvrđivanja uzročnika zarazne bolesti, a cilju sprečavanja i suzbijanja tih bolesti.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cc00"/>
                </a:solidFill>
                <a:latin typeface="Arial"/>
                <a:ea typeface="Tahoma"/>
              </a:rPr>
              <a:t>Epidemiološko istraživanje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 sprovodi se sa ciljem da se ustanove rezervoar, odnosno izvor i put prenošenja zaraznih bolesti, kao i faktori koji su doprineli nastan ku i širenju epidemije, da se predlože adekvatne prtivepidemijske mere i da se prati njihovo sprovođenje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Tahoma"/>
              </a:rPr>
              <a:t>Laboratorijsko ispitivanje radi utvrđivanja uzročnika zaraznih bolesti 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 Laboratorijsko ispitivanje radi utvrđivanja uzročnika, tipizacije uzročnika ili specifičnog odgovora organizma na prisustvo uzročnika zaraznih bolesti, sprovodi se u svim slučajevima ili sumnje na pojavu zaraznih bolesti, kao u slučaju pojave epidemije, u kojima je utvrđivanje uzročnika i tipizacije uzročnika zarazne bolesti neophodno za postavljanje dijagnoze.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50752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Tahoma"/>
              </a:rPr>
              <a:t>Postavljanje dijagnoze zarazne bolesti 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  <a:ea typeface="Tahoma"/>
              </a:rPr>
              <a:t> Postavljanje dijagnoze zarazne bolesti sprovodi se u skladu sa kliničkim, laboratorijskim i epidemiološkim kriterijumim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3646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Tahoma"/>
              </a:rPr>
              <a:t>Prijavljivanje</a:t>
            </a:r>
            <a:br>
              <a:rPr sz="2800"/>
            </a:br>
            <a:br>
              <a:rPr sz="28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Obaveznom prijavljivanju, podleže:</a:t>
            </a:r>
            <a:br>
              <a:rPr sz="2400"/>
            </a:br>
            <a:br>
              <a:rPr sz="24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1) svako oboljenje ili smrt od zarazne bolesti iz člana 5. ovog zakona u skladu sa definicijom slučaja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2) sumnja na obolevanje od kolere, kuge, velikih boginja, žute groznice, virusne hemoragijske groznice, SARS-a, poliomijelitisa, difterije, malih boginja, botulizma, kao i pojave nepoznate zarazne bolesti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3) epidemija zarazne bolesti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4) izlučivanje uzočnika trbušnog tifusa, paratifusa, drugih salmoneloza, šigeloza, jersinioza, kampilobakterioza kao i nosilaštvo antigena virusnog hepatitisa B, prisustvo antitela na virusni hepatitis C, antitela na HIV, kao i nosilaštvo parazita – uzročnika malarije; 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3646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5) Svaki neuobičajeni događaj koji može ukazivati na zloupotrebu biološkog agensa ili epidemije  izazvane nepoznatim uzročnikom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6) svaka sumnja na pojavu zarazne bolesti koja odgovara definiciji opasnosti po zdravlje od međunarodnog značenja, prema MZP i SZO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7) mogućnost infekcije virusom besnila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8) akutna flakcidna parazliza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9) laboratorijski utvrđen uzročnik zarazne bolesti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10) infekcija povezana sa zdravstvenom zaštitom (bolnička infekcija)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11) rezistencija uzročnika zarazne bolesti na antimikrobne lekove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12) neželjena reakcija posle imunizacije.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Prijavljivanje vrše zdravstvene ustanove, druga pravna lica koja mogu obavljati i zdravstvenu delatnost u skladu sa zakonom, privatna praksa i zdravstveni radnici na propisnom obrtascu, u skladu sa ovim zakono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3646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Tahoma"/>
              </a:rPr>
              <a:t>Zdravstveni nadzor i karantin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Lica koja dolaze iz zemalja u kojima ima kolere, kuge, velikih boginja, žute groznice, virusnih hemoragijskih groznica (izuzev hemoragijske groznice sa bubrežnim sindromom), malarije i/ili drugih oboljenja koja predstavljaju pretnju po međunarodno javno zdravlje ili postoji epidemija i rizik od oboljenja od zaraznih bolesti koje se mogu uneti u zemlju i lica sa ili bez zdravstvenih tegoba dužna su da se na graničnom prelazu prijave nadležnoj zdravstvenoj službi, odnosno organima nadležnim za kontrolu prelaženja državne granice kao i da se u mestu boravka jave nadležnom zavodu, odnosno institutu za javno zdravlje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522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ere profilaks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mogu da budu:</a:t>
            </a:r>
            <a:br>
              <a:rPr sz="3600"/>
            </a:b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I  Opšte mere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             II  Specifične me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3646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ffc000"/>
                </a:solidFill>
                <a:latin typeface="Arial"/>
                <a:ea typeface="Tahoma"/>
              </a:rPr>
              <a:t>Karantin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 je mera kojom se ograničava sloboda kretanja i utvrđuju obavezni zdravstveni pregledi zdravim licima koja su bila ili za koja postoji sumnja da su bila u kontaktu sa licima obolelim od zaraznih bolesti ili sa licem za koje  postoji sumnja da je obolelo od zarazne bolesti navedene u Zakonu (Lica obolela ili za koja postoji sumnja da boluju od kuge, velikih boginja i virusnih hemoragijskih groznica (izuzev hemoragijske groznice sa bubrežnim sindromom), SARS-a, kao i lica za koja postoji sumnja da boluju od zarazne bolesti nepoznate etiologije, izoluju se i leče u zdravstvenim ustanovama za bolničko lečenje lica obolelih od zaraznih bolesti), tokom perioda zaraznosti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35344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Tahoma"/>
              </a:rPr>
              <a:t>Imunizacija i hemioprofilaksa</a:t>
            </a:r>
            <a:br>
              <a:rPr sz="2800"/>
            </a:br>
            <a:br>
              <a:rPr sz="2000"/>
            </a:br>
            <a:r>
              <a:rPr b="1" lang="sr-Latn-CS" sz="2000" spc="-1" strike="noStrike">
                <a:solidFill>
                  <a:srgbClr val="ffff00"/>
                </a:solidFill>
                <a:latin typeface="Arial"/>
                <a:ea typeface="Tahoma"/>
              </a:rPr>
              <a:t>Imunizacija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 je obavezna za: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1. lica određenog uzrasta protiv tuberkuloze, difterije, tetanusa, velikog kašlja, dečije paralize, malih boginja, rubele, zaušaka, virusnog hepatitisa B, oboljenja izazvanih hemofilusom influence tipa B; i oboljenja izazvanih streptokokom pneumonije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2. lica izložena određenim zaraznim bolestima: hepatitisu B, hepatitisu A, trbušnom tifusu, besnilu i tetanusu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3. lica u posebnom riziku od bolesti: hepatitisa B, gripa, meningokokne bolesti, oboljenja izazvanih streptokokom pneumonije i hemofilusom influence B, varičele, infekcije izazvane respiratornim sincicijalnim virusom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4. lica zaposlena u zdravstvenim ustanovama protiv određenih zaraznih bolesti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5. putnike u međunarodnom saobraćaju protiv žute groznice i drugih zaraznih bolesti po zahtevu zemlje u koju se putuje.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3646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Tahoma"/>
              </a:rPr>
              <a:t>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Preporučena imunizacija je imunizacija koju doktor medicine ili specijalista odgovarajuće grane medicine preporučuje, u skladu sa programom imunizacije stanovništva protiv određenih zaraznih bolesti: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1. za lica određenog uzrasta protiv varičele, HPV infekcija, hepatitisa A i B, gripa i oboljenja izazvanih streptokokom pneumonije i drugih u sladu sa Zakonom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2. po kliničkim indikacijama protiv hepatitisa A i B, gripa, oboljenja izazvanih streptokokom pneumonije i drugih u skladu sa zakonom;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3. putnika u međunarodnom saobraćaju protiv trbušnog tifusa, hepatitisa A i B, gripa, dečije paralize i drugih u skladu sa Zakonom.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Imunizacija se može sprovoditi i za druge zarazne bolesti koju doktor medicine ili specijalista odgovarajuće grane medicine nije dužan da prepporuči ili koja se traži na lični zahtev pacijenta.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3646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Tahoma"/>
              </a:rPr>
              <a:t> </a:t>
            </a:r>
            <a:br>
              <a:rPr sz="2800"/>
            </a:br>
            <a:r>
              <a:rPr b="1" lang="sr-Latn-CS" sz="2000" spc="-1" strike="noStrike">
                <a:solidFill>
                  <a:srgbClr val="ffff00"/>
                </a:solidFill>
                <a:latin typeface="Arial"/>
                <a:ea typeface="Tahoma"/>
              </a:rPr>
              <a:t>Imunizacija specifičnim imunoglobulinima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 obavezna je za lica kojima je, po epidemiološkim indikacijama, potrebna postekspoziciona zaštita protiv tetanusa, besnila, hepatitisa B, kao i u slučaju druge bolesti </a:t>
            </a: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Arial"/>
                <a:ea typeface="Tahoma"/>
              </a:rPr>
              <a:t>(difterija, infekcije uzrokovane hemofilusom influence grupe B, Influenca/grip uključujući influencu A (H1N1), morbili/male boginje, ...),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 kao i nove bolesti.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ffff00"/>
                </a:solidFill>
                <a:latin typeface="Arial"/>
                <a:ea typeface="Tahoma"/>
              </a:rPr>
              <a:t>Zaštita lekovima (hemioprofilaksa)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 sprovodi se kod lica koja su izložena zaražavanju od tuberkuloze, malarije, meningokokne bolesti i HIV infekcije, a po epidemiološkim indikacijama i kod lica koja su izložena drugim zaraznim bolestima, u skladu sa Zakonom.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Zaštitu lekovima organizuju i sprovode nadležne zdravstvene ustanove i zdravstveni radnici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1" lang="sr-Latn-CS" sz="28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  <a:ea typeface="Tahoma"/>
              </a:rPr>
              <a:t>Dezinfekcija, dezinsekcija i deratizacija po epidemiološkim indikacijama </a:t>
            </a:r>
            <a:br>
              <a:rPr sz="2800"/>
            </a:br>
            <a:r>
              <a:rPr b="1" lang="sr-Latn-CS" sz="2800" spc="-1" strike="noStrike">
                <a:solidFill>
                  <a:srgbClr val="ffcc00"/>
                </a:solidFill>
                <a:latin typeface="Arial"/>
                <a:ea typeface="Tahoma"/>
              </a:rPr>
              <a:t> </a:t>
            </a:r>
            <a:br>
              <a:rPr sz="2800"/>
            </a:br>
            <a:r>
              <a:rPr b="0" lang="sr-Latn-CS" sz="2400" spc="-1" strike="noStrike">
                <a:solidFill>
                  <a:srgbClr val="ffcc00"/>
                </a:solidFill>
                <a:latin typeface="Tahoma"/>
                <a:ea typeface="Tahoma"/>
              </a:rPr>
              <a:t>Dezinfekcij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se svakodnevo sprovodi: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pranje ruku i održavanje lične higijene;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dezinfekcija vode za piće;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pasterizacija mleka i drugih prehrambenih proizvoda;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dezinfekcija i sterilizacija medicinskih instrumenata i materijala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dezinfekcija u zdravstvenim ustanovama, dečjim kolektivima, javnim objektima;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dezinfekcija u sredstvima javnog prevoza.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Ova mera se svakodnevno sprovodi u periodu pre pojave bolesti.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Sprovodi se istim merama i tehničkim postupcima kao i pri izvođenju dezinfekcije u protivepidemijske svrhe.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2800" spc="-1" strike="noStrike">
                <a:solidFill>
                  <a:srgbClr val="ffcc00"/>
                </a:solidFill>
                <a:latin typeface="Tahoma"/>
                <a:ea typeface="Tahoma"/>
              </a:rPr>
              <a:t>Dezinsekcija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je mera kojom se uništavaju prenosioci (vektori) uzročnika zaraznih bolesti.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Sprovodi se u sezoni najveće gustine i najviše biološke aktivnosti vektora.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Ova mera se sprovodi u objektima za proizvodnju  promet životnih namirnica, zdravstvenim ustanovama, predškolskim i školskim objektima, javnim površinama i t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99128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3200" spc="-1" strike="noStrike">
                <a:solidFill>
                  <a:srgbClr val="ffcc00"/>
                </a:solidFill>
                <a:latin typeface="Tahoma"/>
                <a:ea typeface="Tahoma"/>
              </a:rPr>
              <a:t>Deratizacija 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se sprovodi u cilju uništavanja pacova i drugih glodara kao prenosioca uzročnika određenih zaraznih bolesti (salmoneloze, leptospiroze, tularemija i td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4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cc00"/>
                </a:solidFill>
                <a:latin typeface="Arial"/>
                <a:ea typeface="Tahoma"/>
              </a:rPr>
              <a:t>Zdravstveni pregledi određenih kategorija zaposlenih lica u  objektima pod sanitarnim nadzorom, kao i određenih kategorija stanovništva radi utvrđivanja nosilaštva uzročnika zaraznih bolesti</a:t>
            </a:r>
            <a:br>
              <a:rPr sz="2600"/>
            </a:br>
            <a:br>
              <a:rPr sz="1400"/>
            </a:br>
            <a:r>
              <a:rPr b="0" lang="sr-Latn-CS" sz="2200" spc="-1" strike="noStrike">
                <a:solidFill>
                  <a:srgbClr val="ffffff"/>
                </a:solidFill>
                <a:latin typeface="Tahoma"/>
                <a:ea typeface="Tahoma"/>
              </a:rPr>
              <a:t>Obaveznom zdravstvenom pregledu  podležu:</a:t>
            </a:r>
            <a:br>
              <a:rPr sz="2200"/>
            </a:br>
            <a:br>
              <a:rPr sz="1200"/>
            </a:br>
            <a:r>
              <a:rPr b="0" lang="sr-Latn-CS" sz="2200" spc="-1" strike="noStrike">
                <a:solidFill>
                  <a:srgbClr val="ffffff"/>
                </a:solidFill>
                <a:latin typeface="Tahoma"/>
                <a:ea typeface="Tahoma"/>
              </a:rPr>
              <a:t>1.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  <a:ea typeface="Tahoma"/>
              </a:rPr>
              <a:t>zaposleni na poslovima javnog snabdevanja stanovništva vodom za piće, proizvodnje, prometa i usluživanja hrane, izuzev lica zaposlenih u proizvodnji žestokih alkoholnih pića, vina, sirćeta i sirćetne kiseline, kao i lica zaposlenih u objektima za prome hrane u kojima se vrši promet isključivo originalno zapakovanom hranom;</a:t>
            </a:r>
            <a:br>
              <a:rPr sz="2200"/>
            </a:br>
            <a:r>
              <a:rPr b="0" lang="sr-Latn-CS" sz="2200" spc="-1" strike="noStrike">
                <a:solidFill>
                  <a:srgbClr val="ffffff"/>
                </a:solidFill>
                <a:latin typeface="Arial"/>
                <a:ea typeface="Tahoma"/>
              </a:rPr>
              <a:t>2.</a:t>
            </a:r>
            <a:r>
              <a:rPr b="0" lang="sr-Latn-CS" sz="2200" spc="-1" strike="noStrike">
                <a:solidFill>
                  <a:srgbClr val="ffcc00"/>
                </a:solidFill>
                <a:latin typeface="Arial"/>
                <a:ea typeface="Tahoma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  <a:ea typeface="Tahoma"/>
              </a:rPr>
              <a:t>zaposleni na poslovima ishrane, nege i održavanja higijene u predškolskim ustanovama, ustanovama za kolektivni smeštaj dece i omladine i ustanovama socijalne zaštite za smeštaj određenih kategorija lica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99128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3. zaposleni u zdravstvenim ustanovama i privatnoj praksi koj pružaju usluge zdravstvene zaštite na odeljenjima sa povećanim rizikom od zaraznih bolesti, i to: na poslovima dijagnostike, lečenja, nege, ishrane bolesnika i poslovima održavanja higijene;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4. zaposleni na poslovima proizvodnje, prometa i izdavanja lekova i medicinskih  sredstava, odnosno koji na drugi način dolaze u neposredan kontakt sa lekovima i medicinskim sredstvima;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5. zaposleni na poslovima pružanja usluge higijenske nege i ulepšavanja lica i tela, poslovima pružanja nemedicinskih estetskih intervencija kojima se narušava integritet koće, kao i zaposleni na poslovima proizvodnje kozmetičkih sredstava;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6. lica koja u toku školovanja obavljaju obaveznu praksu na poslovima utvrđenim u tačkama od 1 do 5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69948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Efekat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  <a:ea typeface="Tahoma"/>
              </a:rPr>
              <a:t>:</a:t>
            </a:r>
            <a:br>
              <a:rPr sz="4000"/>
            </a:b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ahoma"/>
                <a:ea typeface="Tahoma"/>
              </a:rPr>
              <a:t>- radikalne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ahoma"/>
                <a:ea typeface="Tahoma"/>
              </a:rPr>
              <a:t>- palijativ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 poslovima utvrđenim u stavu 1. tač. Od 1 do 5. ovog člana, ne mogu se zapošljavati, odnosno ne mogu obavljati delatnost ili obaveznu praksu lica koja nisu podvrgnuta obaveznom zdravstvenom pregledu.</a:t>
            </a:r>
            <a:br>
              <a:rPr sz="2400"/>
            </a:br>
            <a:br>
              <a:rPr sz="12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Na poslovima utvrđenim u stavu 1.tač. Od 1 do 5. ovog člana, ne mogu se zapošljavati odnosno ne mogu obavljati delatnost ili obaveznu praksu lica obolela od određnih zaraznih bolesti, kao ni lica koja su nosioci određenih mikroorganizama i parazita.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Meru obaveznih zdravstvenih pregleda određenih kategorija zaposlenih, drugih lica i kliconoša, organizuje i sprovodi nadležni zavod, odnosno institut za javno zdravlje na teritoriji za koju je osnovan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99128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dravstvene ustanove, pravatna praksa, druga pravna lica, preduzetnici i fizička lica koja obavljaju delatnost izs tava 1. tačka od 1 do 6, dužni su da obezbede vršenje obaveznih zdravstvenih pregleda određenih kategorija svojih zaposlenih u rokovima i na način propisan Zakonom i snose troškove tih pregleda,  kao i da u poslovnim prostorijama objekta u kojima se obavlja delatnost čuvaju sanitarne knjižice, kao dokaz o obavljenom zdravstvenom pregledu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000"/>
                </a:solidFill>
                <a:latin typeface="Arial"/>
                <a:ea typeface="Tahoma"/>
              </a:rPr>
              <a:t>Obaveznom zdravstvneom pregledu radi utvrđivanja nosilaštva uzročnika zaraznih bolesti podležu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: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1. davaoci krvi, ćelija, tkiva, organa ili delova organa koji se presađuju;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2. trudnice;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3. osobe na lečenju hemodijalizom;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4. lica koja su bila akcidentalno izložena dokazano infektivnom ili potencijalno infektivnom materijalu;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5. odojčad ili deca koja su tokom trudnoće, rađanja ili po rođenju bila izložena HIV infekciji ili virusnoj hepatitis C infekciji, kao i odojčad ili deca sa sumnjom na kongenitalni sifilis;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6. novorođenčad/odojčad rođena od majki sa sumnjom na infekciju virusom rubele ili potvrđenom infekcijom virusom rubele u trudnoći, odnosno ona sa sumnjom na kongenitalni rubela sindrom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Tahoma"/>
              </a:rPr>
              <a:t>7. lica na izdržavanju kazne zatvora;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Tahoma"/>
              </a:rPr>
              <a:t>8. lica smeštena u socijalne ustanove u kojima se obavlja i zdravstvena delatnost, kao i lica smeštena u đačke i studentske  domove;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Tahoma"/>
              </a:rPr>
              <a:t>9. lica koja traže azil;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Tahoma"/>
              </a:rPr>
              <a:t>10. lica koja su na programima inseminacije ili veštačke oplodnje, u skladu sa zakonom kojim se uređuje biološki potpomognuta oplodnja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Tahoma"/>
              </a:rPr>
              <a:t>11. zdravstveni radnici koji su eksponirani HBV virusu na HBsAg ili anti HBs u zavisnosti od toga da li su vakcinisani protiv hepatitisa 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176560" y="1355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84360" y="568440"/>
            <a:ext cx="813564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4960" indent="-26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Preporučenom zdravstvenom pregledu, radi utvrđivanja nosilaštva uzročnika zaraznih bolesti podlež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udnic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Žrtve seksualnog napada ili zlostavljanj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ca sa dijagnostikovanom aktivnom tuberkulozom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ca sa klinički manifestnim znacima ili simptomima koji ukazuju na oslabljen imunološki sistem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ca koja su bila potencijalno, nenasilno izložena infekcija koja se prenosi parenteralnim ili seksualnim pu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755640" y="620640"/>
            <a:ext cx="7991640" cy="64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avezni ili preporučeni  zdravstveni pregledi radi utvrđivanja nosilaštva uzročnika zaraznih bolesti mogu biti propisani i za druge kategorije stanovništva prema epidemiološkim indikacijama i u skladu sa preporukama SZO i drugih međunarodnih organizacij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ru obaveznog i preporučenog zdravstvenog pregleda za određene kategorije stanovništva iz stava 1. organizuju i sprovode nadležne zdravstvene ustanove, u skladu sa zakono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nistar određuje zarazne bolesti i nosilaštvo određenih mikroorganizama i specifičnih antitela, propisuje vrste obaveznih i preporučenih zdravstvenih pregleda kojima podležu lic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z čl. 45. i 46. ovog zakon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kao i uslove, rokove i način sprovođenja tih pregleda i izveštavanj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26920" y="836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826920" y="98100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11280" y="620640"/>
            <a:ext cx="684036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Zdravstveno vaspitanje i obrazovanje određenih kategorija zaposleni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dravstvene ustanove, pravna lica koja obavljaju i zdravstvenu delatnost, privatna praksa i zdravstveni radnici dužni su da kroz promociju zdravlja obolela lica i druga lica iz njihove neposredne okoline pouče o načinu zaštite od zarazne bolest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26920" y="836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826920" y="98100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11280" y="1197000"/>
            <a:ext cx="6840360" cy="40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formisanje zdravstvenih radnika i stanovništ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avodi, odnosno instituti za javno zdravlje obavezni su da informišu zdravstvene radnike i stanovništvo o razlozima i načinu sprovođenja posebnih mera za suzbijanje i sprečavanje zaraznih bolesti, a posebno u slučajevima kada je potrebna saradnja zdravstvenih radnika i stanovništva u sprovođenju posebnih mera za suzbijanje i sprečavanje zaraznih bolest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826920" y="836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826920" y="98100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11280" y="620640"/>
            <a:ext cx="684036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ruge mere za zaštitu stanovništva od zaraznih bolesti i način njihovog sprovođe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revencija i suzubijanje infekcija povezanih sa zdravstvenom zaštitom (bolnička infekcij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dravstvene ustanove, privatna praksa, socijalne  ustanove u kojima se obavlja i zdravstvena delatnost i druga pravna lica koja mogu obavljati i zdravstvenu delatnost dužne su da sprovode stručne, organizacione i druge propisane mere radi sprečavanja pojave, kao i radi ranog otkrivanja i suzbijanja bolničkih infekcija unutar ustanov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912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826920" y="836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826920" y="98100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11280" y="620640"/>
            <a:ext cx="6840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Higijensko postupanje prilikom pružanja usluga higijenske nege i ulepšavanja lica i tela, kao i nemedicinskih estetskih intervencija kojima se narušava integritet kož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avna  lica i preduzetnici koji obavljaju delatnost pružanja usluga higijenske nege i ulepšavanja lica i tela, kao i nemedicinskih estetskih intervencija kojima se narušava integritet kože, dužni su da svoje usluge pružaju pod uslovima i na način kojim se sprečava pojava i prenošenje zaraznih boles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000"/>
            </a:b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Radikalne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su mere trajnog karaktera, koje rešavaju problem zaraznih bolesti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rimer: u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borbi protiv variole vakcinoprofilaksom je bolest iskorenjena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0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Obezbeđenje stanovništva ispravnom vodom za piće, kao i higijensko otklanjanje otpadnih materija, održavanje lične higijene itd, predstavljaju radikalne mere u borbi protiv mnogih crevnih zaraznih bolesti.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8836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Palijativne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su ograničenog trajanja, odnosno traju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o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noliko dugo koliko se profilaksa i sprovodi (ili nešto duže). 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Na primer u borbi protiv trbušnog tifusa vakcinacija je palijativna me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507520" cy="61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3600"/>
            </a:br>
            <a:r>
              <a:rPr b="1" lang="sr-Latn-CS" sz="3600" spc="-1" strike="noStrike">
                <a:solidFill>
                  <a:srgbClr val="ffff00"/>
                </a:solidFill>
                <a:latin typeface="Tahoma"/>
                <a:ea typeface="Tahoma"/>
              </a:rPr>
              <a:t>OPŠTE MERE</a:t>
            </a:r>
            <a:br>
              <a:rPr sz="3600"/>
            </a:br>
            <a:br>
              <a:rPr sz="36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za zaštitu stanovništva od zaraznih bolesti predstavljaju prvenstveno sanitarno-higijenske mere.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Radi se o komunalnim merama.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obezbeđenje zdravstveno ispravne vode za piće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 putem objekata za javno snabdevanje vodom za piće, vode za sanitarno-higijenske i rekreativne potrebe, kao i sanitarne zaštite izvorišta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obezbeđivanje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zdravstveno bezbedne hrane, predmeta koji dolaze u dodir s hranom i predmeta opšte upotrebe, kao i sanitarno-higijenskih uslova za njihovu proizvodnju i promet; 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- obezbeđivanje zdravstvene ispravnosti kupališnih, bazenskih voda, javnih česmi i izvora i drugih vodas od javno zdravstvenog interesa;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obezbeđivanje sanitarno-tehničkih i higijenskih uslova u objektima pod sanitarnim nadzorom i drugim objektima u kojima se obavlja društvena, odnosno javna delatnost;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-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uklanjanje ljudskih i životinjskih izlučevina, leševa, organa i tkiva, otpadnih voda na način da ne ugrožavaju zdravlje stanovništva;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- sprovođenje DDD u naseljenim mestima, na javnim površinama i u dr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ahoma"/>
              </a:rPr>
              <a:t>u</a:t>
            </a:r>
            <a:r>
              <a:rPr b="1" lang="sr-Latn-CS" sz="2000" spc="-1" strike="noStrike">
                <a:solidFill>
                  <a:srgbClr val="ffffff"/>
                </a:solidFill>
                <a:latin typeface="Tahoma"/>
                <a:ea typeface="Tahoma"/>
              </a:rPr>
              <a:t>gim objektim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507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0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- sprovođenje preventivne dezinfekcije, dezinsekcije i deratizacije u naseljenim mestima, na javnim površinama, u stambenim objektima, u sredtvima javnog saobraćaja, u objektima pod sanitarnim nadzorom i njihovoj neposrednoj okolini i u drugim objetima u kojima se obavlja društvena, odnosno javna delatnost;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uklanjanje ljudskih i životinjskih izlučevina, leševa, organa i tkiva, otpadnih voda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i drugih otpadnih materija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na način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i pod uslovima koji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ne ugrožavaju zdravlje stanovništva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, izvorišta vode za piće i životnu sredinu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09:44:06Z</dcterms:created>
  <dc:creator>zoran</dc:creator>
  <dc:description/>
  <dc:language>en-US</dc:language>
  <cp:lastModifiedBy>Korisnik</cp:lastModifiedBy>
  <dcterms:modified xsi:type="dcterms:W3CDTF">2018-12-20T09:04:18Z</dcterms:modified>
  <cp:revision>100</cp:revision>
  <dc:subject/>
  <dc:title>PROFILAKSA ZARAZNIH BOLESTI</dc:title>
</cp:coreProperties>
</file>