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B9D-E8FD-43AA-AAFC-AF366DF6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FE7-18C2-4055-8AC0-8C6F5665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61F-F7DA-477B-8191-B30363FA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F3D-F7EC-46E8-A41C-746F0080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5C2A-FDAC-4DD3-B606-A5CC274B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3A9D-B80F-4EBA-BEC7-8D915EEB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D30-4396-4FE0-83D5-E8C4619C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4951-D71E-4295-B1CE-8758846D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0B9D-6B3E-49A1-B426-D2B25D94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DAA1-9777-45CA-9A99-B2F495E2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A907-782A-4770-AC3C-0ACD58DE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F51-DFE0-44E0-A508-39AB0B2B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823D-35B1-4734-B07B-2755160C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1852-FBBA-4504-8D9B-5D555569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9200-E1A6-4AAC-BECE-18334C80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09F9-454D-408D-A7A4-F3858E4F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1F34-180F-4900-BB7A-DC2A3C03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743-0B5B-4AB0-B57C-425B1319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D75-55F3-4F21-BBD5-9BFFD9B4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D9B-0EAA-436F-878B-C78A8772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468-A979-4F16-BFE2-96A67337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045-11F6-4DA2-959F-0559F743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BC5-E756-4B61-9435-12C6AE0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CCC-B9C3-41C2-B08C-4C48DEA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4838-6F40-4C4D-9802-C858B7F5B3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677E-694A-46E0-8913-D45D1968C8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na aktivn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 pasivn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munizacij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ica u posebnom rizik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oholizm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tomatske i asimptomatske HIV infekc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lantacije organa i tkiv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ignog oboljenj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starijih od 65 godina života u kolektivnom smešta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se sprovodi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jednom doz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e kod dece starije o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ve god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kod odrasli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akcinacija se sprovodi davanjem jedne doze vakcin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ri do pet godi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akon vakcinaci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saharidna vakcina daje s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tramuskular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li supkutano u dozi o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0,5 ml u deltoidnu regi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rotiv meningokoknog meningiti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meningokoknog meningitisa sprovodi s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olisaharidno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akcinom po kliničkim indikacijama kod dece starije od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ve god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kod odraslih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tomska i funkcionalna asplenija (splenektomija, srpasta anemija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unodeficijencija komplementa (C5-C9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se sprovodi davanjem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jedne doz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olisaharidne vakcine protiv meningokoknog meningitisa odmah po utvrđivanju indikacij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akcinacija se sprovodi u razmaku ne kraćem od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ri god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d izvršene vakcinacije u slučaju da indikacije i dalje postoj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akcinacija polisaharidnom vakcinom može se sprovoditi i ukoliko je osoba prethodno vakcinisana konjugovanom vakcinom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 protiv meningokoknog meningitisa daje se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u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kuta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u dozi od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0,5 ml u deltoidnu regiju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rotiv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velikog kašl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dece od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va meseca do pet god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život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elularnom vakcinom protiv velikog kašlja (DtaP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rovodi se na osnovu kliničkih indikaci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liničke indikacije za davanje DtaP vakcine jesu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a (rektalna) 4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i veća od 4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u roku 48 časova od prethodne doze DTP vakcine, a koja nije u vezi sa drugim mogućim uzrokom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ran, neutešan plač koji traje tri sata ili duže, a javlja se u roku 48 časova od prethodne doze DTP vakcin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laps ili stanje slično šoku (hipotonične-hiposenzitivne epizode) u roku 48 časova od prethodne doze DTaP vakcin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vulzije bilo febrilne ili afebrilne koje se javljaju unutar tri dana od prethodne doze DTP vakci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iničku indikaciju za davanje DtaP vakcine iz stava 2. ovog člana utvrđuje Stručni tim iz člana 10. ovog pravilnika nakon razmatranja prijave neželjene reakcije na prethodnu dozu DTaP vakci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utnika u međunarodnom saobraćaj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nici u međunarodnom saobraćaju vakcinišu se ako putuju u zemlje koje zahtevaju određenu vakcinu i prema epidemiološkim indikacijama, u skladu sa Međunarodnim zdravstvenim pravilnikom protiv sledećih bolest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žute groznice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bavez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ingokoknog meningitisa-preporučen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bušnog tifus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le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ter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ih zaraznih bolesti (akutnog virusnog hepatitisa B, besnilo, tetanus, malih boginja i dr.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ktivna imunizacija protiv grip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protiv gripa sprovodi se inaktivisanom vakcinom protiv gripa spravljenom od celih virusa ili SPLIT vakcinom koja sadrži delove virusa odgovorne za imunit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ma kliničkim indikacijama, vakcinacija se sprovodi kod svih lica starijih od šest meseci sa hroničnim poremećajima plu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g i kardiovaskularnog sistema i sa metaboličkim poremećajima (uključujući šećernu bolest), bubrežnom disfunkcijom, hemoglobinopatijom, imunosupresijom i d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ema epidemiološkim indikacijama vakcinacija se sprovod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smeštenih u gerontološkim centrima i kod lica zaposlenih u gerontološkim centrim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dece, omladine i starih lica smeštenih u ustanovama socijalne zaštite i kod lica zaposlenih u tim ustanovam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zaposlenih u objektima u kojima se obavlja zdravstvena delatnost, a naročito u odeljenjima sa povećanim rizikom, stacionarima za hronično obolela lica i d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zaposlenih u javnim službama posebno eksponiranih infekciji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starijih od 65 godina živo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zaštitu dece uzrasta od navršenih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šest meseci do navršenih osam godina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oristi se isključivo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PLIT vakc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a koja se prvi put vakcinišu dobijaju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v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akcine u razmaku od 30 dana, a narednih godina samo po jednu dozu vakcin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a od navršenih šest meseci do navršene tri godine života dobijaju 0,25 ml SPLIT vakcine, a deca uzrasta od navršene tri do navršenih osam godina života dobijaju dozu za odrasle (0,5 ml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va lica starija od osam godina života vakcinišu se samo jednom dozom celovirusne ili SPLIT vakcine (0,5 ml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 se daje intramuskularno ili duboko supkutano u deltoidnu regi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ktivna imunizacija protiv oboljenja izazvanih hemofilusom influence tipa "B"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provodi se HiB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om, prema kliničkim indikacijama, kod dece starije od dve godine života bez obzira na prethodni vakcionalni status, u slučajevi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latacije organa i tkiv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enektomije i srpaste ane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ioterapije i terapije zračenjem kod malignih tumo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tomatske i asimptomatske HIV infekc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d drugih klinički utvrđenih imunodeficijencij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cinacija se sprovodi jednom dozom vakcin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periodu 14 i više dana pre planirane transplantacije, elektivne splenktomije, terapije zračenjem ili hemioterapije kod malignih tumor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d asimptomatske HIV infekci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se sprovodi sa dve doze vakcine u razmaku ne kraćem od mesec dana u sledećim slučajevi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le izvršene transplantacije organa i tkiva u toku imunosupresivne terapije, a prema savetu imunolog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d slezina nije u funkciji ili 14 i više dana posle izvršene splenekto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paste ane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toku hemioterapije ili terapije zračenjem malignih tumo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tomatske HIV infekc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d drugih klinički utvrđenih imunodeficijenci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ktivna imunizacija protiv oboljenja izazvanih streptokokusom pneumonije (pneumokoko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oboljenja izazvanih streptokokusom pneumonije (pneumokokom) vrši s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olisaharidnom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 kliničkim indikacijama, u sledećim slučajevi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tomske ili funkcionalne asplen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rpaste anem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e kardiovaskularne i plućne bolest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ećerne bolest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og oboljenja jetr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og oboljenja bubreg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frotskog sindrom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18:21Z</dcterms:created>
  <dc:creator>Intel</dc:creator>
  <dc:description/>
  <dc:language>en-US</dc:language>
  <cp:lastModifiedBy>Korisnik</cp:lastModifiedBy>
  <dcterms:modified xsi:type="dcterms:W3CDTF">2019-11-01T08:31:38Z</dcterms:modified>
  <cp:revision>10</cp:revision>
  <dc:subject/>
  <dc:title>Aktivna imunizacija po kliničkim indikacij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