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DF5-506B-4E9B-A2BF-A9A9C448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C8A-7D01-410D-AF30-56AB7BED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1AC0-4C7A-49E5-909C-9EB6BBEB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135D-189C-4D1D-A100-2F30E790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AA26-CCCB-49C5-981D-5EDDD1AA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7AF8-342C-4592-AE3B-12481973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1F48-9D22-4F4A-ADC4-872E78EB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FC53-4A11-41D5-B962-0970AB22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C842-E9AE-4562-A7F1-C72EE25F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A097-FAF8-4ED8-A2E5-45C48A95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F2A7-4AD9-44E3-894B-D54AC4A6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78B-A019-43DD-982D-B62376FF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9704-4E14-4954-A806-9EF8D55E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F4C8-8833-4F5F-B64F-76814E57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8824-1AD0-4632-9F39-ECDDC2F7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400C-4B1E-42CC-AD9B-797655B1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8421-46E4-4BB9-A342-E166F7EC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7558-1B11-44AA-A394-86EE2222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363-7A2C-4752-BD8F-01FF43EA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040-6865-4302-8B22-EA2E0975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0B27-4EC6-45AF-934D-11C15A07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A26-714D-4EE6-AAB6-1A21F4FF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745-AB36-4C2B-A51A-1E9BA718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E47-3C8C-46A1-850A-4BF74DF1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8231-AA34-4B8E-B443-92E37E055A9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F2A1-19CF-402D-A360-5175B41C6EA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Times New Roman"/>
              </a:rPr>
              <a:t>ČUVANJE I TRANSPORT VAKCINA "HLADNI LANAC"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ransport i čuvanje vakcina pod određenim temperaturnim uslovima od proizvođača preko distributera do krajnjeg korisnika zove se hladni lana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z 1997. (Odluka o imunizacijama, Službeni list SRJ 27/97) odredbe o hladnom lanc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ežim hladnog lanca strožiji je kada su u pitanju žive vakcine, naročito od osetljivih virusa kao što su morbili, parotitis i rubeola, kao i za poliovirusnu vakcin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Blaži kriterijumi za BCG vakcinu, mrtve vakcine i toksoid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Jedina stabilna vakcina na višim temperaturama vakcina protiv akutnog hepatitisa B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e vakcine treba da se čuvaju u specijalnim frižiderima, ali ako ih nema, onda u običnim frižiderima za domaćinstvo, ali je obavezno prisustvo termomet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emperatura mora da bude između 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 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Hladni lanac se kontroliše primenom određenih indikatora promene temperature tzv. monitorim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aka zdravstvena ustanova mora da koristi rashladne uređaje za čuvanje i transport vakcina, a u tim uređajima moraju da postoje indikatori temperature (termometri ili monitor-kartice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onitor-kartica je karton u kome se upisuju podaci o vakcini (datum, vrsta i serija, lokacija), počevši od proizvođača, preko distributera do krajnjeg korisnika(onog ko primenjuje vakcinu), tj. na svim karikama hladnog lan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toji i jedna specijalna traka sa otvorima obeleženim slovima A, B, C i D. Ova traka se aktivira kada vakcina počinje put od proizvođača koji je aktivira, ka korisniku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a kartica je neprekidno uz vakcinu, do utroška poslednje doze. Hemijska traka je osteljiva na temperaturu iznad 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stepeni i počinje da dobija plavu boju, od mesta gde je aktivirana, odnosno od otvora 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ema širenju plave boje može se zaljkučiti koliko dugo je vakcina transportovana i kojoj temeraturi je bila izložen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tvori A,B,C odnose se na temperature iznad 12° C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tvor D je specifičan i pokazuje da li je vakcina bila čak i kratkotrajno (najmanje 2 sata) izložena temperaturi višoj od 34° 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vi podaci na monitor kartici o kritičnoj temperaturi u toku transporta odnose se samo na više nedozvoljene temperatu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o se radi o nižim temeperaturama ispod 0°C, onda se to kontroliše specijalnim dodatkom tzv. «friz voč» monitorom, jednom cevčicom sa rezervoarom napunjenim crvenim mastilom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vaj «friz voč» se nalepi na monitor karticu, a koristi se u toku zimskih meseci kada se očekuju niske temperatu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ehanizam ove kontrole je takav da cevčica puca na temperaturi ispod minus 4°C u toku jednog sata i oboji crveno ograničeno polje na monitor kartic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va kontrola temperature niže od 0°C bitna je zbog opasnosti od zamrzavanja mrtvih i toksoidnih vakcina u tečnom stanju, koje ne smeju da se zamrzavaj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o je «friz voč» proliven, odnosno, ako je neka od ovih vakcina bila zamrznuta, ona nije više za upotreb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9:49:53Z</dcterms:created>
  <dc:creator>Intel</dc:creator>
  <dc:description/>
  <dc:language>en-US</dc:language>
  <cp:lastModifiedBy>Intel</cp:lastModifiedBy>
  <dcterms:modified xsi:type="dcterms:W3CDTF">2009-11-10T10:04:41Z</dcterms:modified>
  <cp:revision>4</cp:revision>
  <dc:subject/>
  <dc:title>ČUVANJE I TRANSPORT VAKCINA "HLADNI LANAC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