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9AE-9653-488D-A246-4AF88807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F2C-FA4D-43CC-B25B-3EA5977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FC8-6B6D-4E31-A11D-185AC89C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3E9-6CC9-4461-947A-D26CCFF3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FB49-C4A2-434A-AEE1-D2ECF768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42DA-E802-4010-A314-EBE6EFB0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576-1FF3-40E6-A099-E1BE9E5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21F2-9EED-4216-80FD-8D9D7F3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E000-4343-4AF5-8D1D-95FB1EFC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E7E-6060-42C6-9460-6F61CB36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CB14-3DC3-4C51-A8AA-ED418BE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9B7-A2D2-49B9-A255-EEE5BD5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8B58-5E00-4892-A36A-EBB4AD2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6D1-365D-4020-AAC4-09E107C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BBFA-54B7-4193-8FD9-FFFFE975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2ED-1BD8-4AFB-ADCB-5C0AC854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567D-FEB0-40A0-A1D5-2DABC8C2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5B5-2AAB-49D8-BEDA-1F8CC945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21-8BBF-42AE-B263-4F206600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D0D-D7C2-4D59-A1E3-7184492B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B1A-1140-4731-8CCE-B078FC5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1BF-BE68-4C59-A5F8-3CC81FC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944-A768-40B5-9C8B-F991EBA7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40F-FDF8-4F6D-9CDD-E87E8BC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83C-EADD-4CD4-8B92-A707DDAB5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C5E-127B-43B0-8FC7-9FF2D4B43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atistika u epidemiolog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 2. Izračunati morbiditet od zaraznih bolesti u opštin Niš 1998. godine, ako je ukupan broj registrovanih zaraznih bolesti iznosio 3939, a broj stanovnika 24618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3939 X 100.000 : 246184 =3939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 = 1600.02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od svih zaraznih bolesti obolelo je 1600.02 l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stopa incidencije i morbid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8" name="Object 1024"/>
          <p:cNvGraphicFramePr/>
          <p:nvPr/>
        </p:nvGraphicFramePr>
        <p:xfrm>
          <a:off x="1893960" y="1905120"/>
          <a:ext cx="614664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905120"/>
                    <a:ext cx="614664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oliko se ove stope izračunavaju za veliku grupu bolesti (npr. za sve zarazne bolesti), tada se govori o opštim stopama obolevanja (incidencije i morbiditeta), medjutim ukoliko se radi o pojedinim  bolestima, tada se govori o specifičnim stopama incidencije i morbidite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er 3. U opštini Niš (246184 stanovnika) od varičele su 1998. godine obolele 1434 osobe. Specifična stopa obolevanja od varičele je iznosil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. = 1434 X 100.000 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143400000: 24618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spec = 582.49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i na svakih 100.000 stanovnika obolele su 582.49 oso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a stopa incidencije i morbiditeta može se računati i za osobe odredjenog pola, uzrasta, zanimanja i sl. Ukoliko se računaju specifične stope (prema polu, uzrastu, zanimanju...) potrebno je znati broj obolelih medju osobama sa posmatranim obeležjima i ukupan broj osoba sa tim istim obeležji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(Mb) spec =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obolelih(medju osobama sa odredj. karakteristikama) X  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prema polu i uzrastu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 4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enterokolita medju dečacima u uzrastu od 10-14 godina tokom jedne godine iznosio je 1280. Ukupan broj dečaka u uzrastu od 10-14 godina  u posmatranom periodu je iznosio 14.800. Specifična stopa obolevanja muške dece u pomenutom uzrastu u posmatranoj populaciji te godine je iznosio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80 X 10.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86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64.86  na 10.000 muške dece starosti 10-14 godina. Pošto je stopa obolevanja veoma visoka, može se izraziti u procentima, tj. procenat obolelih dečaka (10-14 god) je iznosio 8.65%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sečna godišnja sto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idencije (morbiditeta) za odredjeni period se računa tako što se ukupan broj novoobolelih u posmatranom periodu pomnoži sa konstantom (1000, 10.000 ili 100.000) i podeli sa ukupnim brojem stanovnika u tom period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(Mb) pros =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.novoob. u periodu T</a:t>
            </a:r>
            <a:r>
              <a:rPr b="1" i="1" lang="en-US" sz="1800" spc="-1" strike="noStrike" u="sng" baseline="-30000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Tn X 10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 stanovn u 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T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.......+T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sečna godišnja stop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7392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er 6. Broj obolelih od malignih bolesti u jenom kolektivu, kao i broj zaposlenih radnika prikazan je na tabeli broj 2. Izračunaj prosečnu godišnju incidenciju malignih bolesti u tom kolektiv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ela 2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j novootkrivenih malignih bolesti u jednom kolektivu u periodu od 1993 do 1996. godin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(4+5+4+6) X100.000 : (1840+1856+1820+180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 = 19 X 100.000 : 7321= 259.52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jest, u posmatranom preduzeću prosečna godišnja incidencija je iznosila 259.52 na 100.000  zaposleni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85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07240" cy="138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pa” prevalencije se, takodje, računa na odredjeni broj stanovnika i ona može biti opšta i specifična. Za razliku od incidencije, ona posma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upan broj oboleli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i starih slučajeva i novoobolelih) od neke bolesti na odredjenom području (u strogo odredjenoj populaciji) za odredjeni vremenski period (najčešće jednu godinu) ili u jednoj tački vremena - “point prevalence” (npr. na dan 31.12.1995. godine). Ona pokazuje koliko ukupno ljudi boluje na jednoj teritoriji od posmatrane bolesti (u datom momentu, odnosno u datoj godini), pa ne predstavlja pravu stopu, već proporciju (odnos dela celine prema celini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 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kupan broj obolelih X 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ičina populacije u odredjenom vremenskom perio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alenca neke bolesti, svakako zavisi od incidencije, ali i od dužine preživljavanja (smrtnosti) i obično se teško izračunava i zahteva posebna ispitivanja (tzv. studije prevalenc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preval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Terenskim ispitivanjem  je utvrdjeno da u jednom gradu, koji ima 15642 stanovnika, na dan 31. maja 1998. godine  živi  655 osoba obolelih od dijabeta (hipotetičan primer). “Stopa” prevalencije dijabeta bi iznosil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 X 100.000 : 1564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65500000: 15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4187. 44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i 4.19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evalencija primer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: Na dan 1.11.1998 godine u opštini Niš živi 28 osoba sa HIV infekcijom. Prevalencija HIV infekcije u opštini Niš iznos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 X 100.000 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2800000: 2461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= 11.37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j. na svakih 100.000 stanovnika u opštini Niš 11.37 boluje od HIV infekcije (ili 0.0114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OD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37124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jjednostavniji relativni broj (u isto vreme i epidemiološka karakteristika)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i predstravlja poredjenje dve vrednosti (A i B), tj. koliko puta je jedna vrednost (A) veća ili manja od druge (B). Odnos dve vrednosti se izračunava njihovim deljenj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primer, jednu populaciju sačinj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4 muškar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80 že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Postavlja se pitanje kakav j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nos polov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pomenutoj populaciji. On se računa tako što se broj muškaraca podeli sa brojem žen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uškarci : žen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4:980 =  1.28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j. broj muškaraca je 1.28 puta veći od broja že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nosi se mogu računati kada su brojilac i imenilac dve različite veličine (muškarci- žene, pušači-nepušači) i kada se brojilac ne sadrži u imeniocu i obrnu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or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 stope mortaliteta (odnosi se na ukupan broj umrlih) se izračunav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B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. umrlih u odredjenom periodu X  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 stanov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Srbiji je 1990. ukupno umrlo 93729 osoba ( broj stanovnika Srbije 1990. je iznosio 9884993). Opšta stopa mortalitet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3729 X 100.000 : 9.884.9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= 948.19 na 100.000 stanovni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se odnose na odredjenu bolest ili  grupu bolesti, pol, uzrast ili neku drugu karakteristiku umrlih osob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 (od odredjene bolesti)        X  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. stanovnik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na teritoriji Srbije od svih zaraznih bolesti umrlo je 899 osoba (br. stanovnika je iznosio 9. 884.993) Specifični mortalitet od infektivnih bolesti iznosio j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. spec = (899 x 100.000) : 9.884.993 = 9.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j. 9. 09 na 100.000 stanovnika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pecifične stope mortalite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110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 stope mortaliteta mogu biti, ne samo prema vrsti bolesti, već i prema polu, uzrastu, zanimanju... One se računaju po sledećoj formu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t spec =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umrlih(medju osobama sa odredj. karak) X  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. stanovnika sa odredjenim karakteristik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U jednoj opštini, koja ima 18.000 stanovnika muškog pola u uzrastu od 30-60 godina, u istom uzrastu (30-60) od malignih bolesti umrlo je 60 muškaraca. Specifična stopa smrtnosti muškaraca u pomenutom uzrastu od malignih bolesti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t spec =  (60 x 100.000) : 18.000 = 333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33.3 na 100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etal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ža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procent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nikako se ne može nazvati stopom jer govori samo o odnosu dela celine (broj umrlih od odredjene bolesti) prema celini (broj obolelih od odredjene bolest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oj umrlih od odredjene bolesti X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odredjene bole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mer: Tokom 1990. godine od tetanusa u Srbiji  obolele su 33 osobe, a 10 je umrlo. Letalitet od tetanusa iznos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 = (10 X 100): 33 = 30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rednje vred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8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metička sredina  ili pros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X - iks bar) je matematički dobijena veličina, koje najčešće nema u statističkom nizu, a računa se tako što se članovi statističkog niza saberu i podele sa brojem članov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x1 +x2+......xn) : n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er:  Na osnovu podataka iz tabele broj 2. izračunati prosečan godišnji  broj zaposlenih u kolektivu, kao i prosečan godišnji broj obolelih od malignih bolesti u tom kolektiv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zaposleni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 1840+1856+1820+1805) : 4 = 1807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ečan godišnji broj obolelih od malignih boles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 (4+5+4+6) : 4 = 4.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itmetička sredina se računa u slučaju kada su pojedine vrednosti u statističkom nizu ujednačene, tj. ukoliko nema velikih ostupanja medju njima (kod homogenih nizova). Tada aritmetička sredina adekvatno “predstavlja” sve članove niz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j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dstavlja centralnu vrednost u statističkom nizu koji je uredjen prema veličini  članova (na podjednakom je odstojanju od prvog i zadnjeg člana u nizu, tj. nalazi se na sredini niza) i računa se po formul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mer: Broj prijavljenih slučajeva  side u Jugoslaviji u periodu od 1985. do 1997. kretao se kako je prikazano na tabeli broj 3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jpre se pomenuti statistički niz (broj obolelih) mora urediti po veličin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,3,10,27,33,56,61,65,70,84,86,88,97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 zatim se medijana računa prema formuli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 = (n+1): 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 = (13+1):2 = 7, dakle, sedmi član u uredjenom nizu predstavlja medijanu (6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907240" cy="1560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Medijan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računati medijanu za već uredjeni statistički ni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,5,36,40,45,50,59,6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 = (n+1): 2 = (8+1):2 = 4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 ovom slučaju medijana se nalazi izmedju četvrtog i petog člana serije i mora se matematički odredi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40+45): 2 = 85: 2 = 42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kle, kod serija sa parnim brojem članova medijana je fiktivna vrednost i, u ovom slučaju, iznosi 4.2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Tabelarno prikazivanje podatak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06880" cy="3487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Kružn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75" name="Object 1024"/>
          <p:cNvGraphicFramePr/>
          <p:nvPr/>
        </p:nvGraphicFramePr>
        <p:xfrm>
          <a:off x="457200" y="24382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25"/>
          <p:cNvGraphicFramePr/>
          <p:nvPr/>
        </p:nvGraphicFramePr>
        <p:xfrm>
          <a:off x="4419720" y="23623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Štapićast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0" name="Object 1024"/>
          <p:cNvGraphicFramePr/>
          <p:nvPr/>
        </p:nvGraphicFramePr>
        <p:xfrm>
          <a:off x="1066680" y="2438280"/>
          <a:ext cx="31435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31435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5"/>
          <p:cNvGraphicFramePr/>
          <p:nvPr/>
        </p:nvGraphicFramePr>
        <p:xfrm>
          <a:off x="457200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3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o prikazivanje odno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4" name="Object 1024"/>
          <p:cNvGraphicFramePr/>
          <p:nvPr/>
        </p:nvGraphicFramePr>
        <p:xfrm>
          <a:off x="762120" y="2819520"/>
          <a:ext cx="2485800" cy="16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24858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5"/>
          <p:cNvGraphicFramePr/>
          <p:nvPr/>
        </p:nvGraphicFramePr>
        <p:xfrm>
          <a:off x="4191120" y="251460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Linijski dijagr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990720" y="2057400"/>
          <a:ext cx="3124080" cy="21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3124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5"/>
          <p:cNvGraphicFramePr/>
          <p:nvPr/>
        </p:nvGraphicFramePr>
        <p:xfrm>
          <a:off x="4419720" y="281952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81952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Verdana"/>
              </a:rPr>
              <a:t>Praktični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838080"/>
            <a:ext cx="91440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Zadatak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zaraznih bolesti u jednoj opštini, koja ima 25000 stanovnika  iznosi 456. Izračunati morbidite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 od malignih bolesti tokom jedne godine u gradu, koji ima 125000 stanovnika,  je 484, a u susednom selu, sa 228 stanovnika – 9.   U kojem od ovih naselja maligne bolesti imaju veću stopu incidencije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umrlih os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h  zaraznih bolesti  tokom jedne godine u jednom naselju sa 895 stanovnika je 3. Koliki je mortalitet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roj obolelih od tetanusa u jednoj zemlji, koja ima 18000000 stanovnika tokom 2000. godine  iznosio je 136, a 15 osoba je umrlo od tetanusa. Koliki je mortalitet, a koliki letalitet od tetanusa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    2,6,45,32,5,18,13,21,36,55,52,7,19,15,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drediti medijanu ili aritmetičku sredinu sledećeg niya (odlučite se samo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 jednu, validniju mogućnost): 25,23,21,22,22,28,20,21,21,26,24,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ledeću tabelu prikazati grafički: 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U strukturi neke pojave (P) obeležj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 ima 25 osoba, obeležje B – 20 osoba, obeležje C –5 osoba i obeležje D –50 osoba. Grafički predstaviti procentualnu strukturu pojave P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457200" algn="just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590364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opor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i br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pokazuje kakav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nos dela celine prema cel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j. kada je brojilac deo imenioc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: (A+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imer, od 120 obolelih žena od malignih bolesti 28 je bolovalo od karcinoma dojke, a  92 od drugih malignih bolesti. Koliki je udeo karcinoma dojke u ukupnom broju obolelih žena od malignih bolesti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ja karcinoma dojke medju obolelim ženama od malignih bolesti se izračunava na sledeći nači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orcija obolelih žena od Ca dojk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8: (28+92) =0.2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a proporcija  može se prikaza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o decimal (0.233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zlomak (28/120, 14/60, 7/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i procenat (23.3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2 (proporcija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U jednom odeljenju od 30 učenika 7 učenika imaju plavu kosu, 18 smedju, a 5 crnu. Kakav je proporcionalni odnos plavih, smedjih i crnih učenik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Plavi       7: 30 = 0.233  ili 7/30  ili 23.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Smedji   18: 30 = 0.6  ili 18/30 (9/15; 3/5) ili 60,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Crni         5: 30 = 0.166 ili 5/30(1/6) ili 16.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Procenat se izračunava tako što se proporcija pomnoži sa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Zbir svih proporcija iznosi 1 (ili 10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Grafički prikaz primera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Object 1024"/>
          <p:cNvGraphicFramePr/>
          <p:nvPr/>
        </p:nvGraphicFramePr>
        <p:xfrm>
          <a:off x="533520" y="1981080"/>
          <a:ext cx="314316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025"/>
          <p:cNvGraphicFramePr/>
          <p:nvPr/>
        </p:nvGraphicFramePr>
        <p:xfrm>
          <a:off x="4419720" y="1981080"/>
          <a:ext cx="3143160" cy="21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98108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26"/>
          <p:cNvGraphicFramePr/>
          <p:nvPr/>
        </p:nvGraphicFramePr>
        <p:xfrm>
          <a:off x="2514600" y="4343400"/>
          <a:ext cx="3143160" cy="214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343400"/>
                    <a:ext cx="3143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Stop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kazuju kojom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namik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ke pojave javljaju u odredjenoj populaciji. Dakle, za izračunavanje stopa potrebno je poznavati  kvantitet pojave (broj obolelih, umrlih, dogadjaja...) i veličinu populacije u odredjenom vremenskom periodu, a prikazuju se na 100, 1000, 10.000 ili 100.000 stanovnika. Najčešće se izračunavaj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e incidencije, prevalencije, morbiditeta, mortaliteta i letalite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ve ove stope (osim letaliteta) mogu bit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tzv.”standardno stanovništvo”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nestandardizovan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računate na veličinu posmatranog stanovništva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š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matrane za veću grupu bolesti ili sve bolesti)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rema polu, uzrastu, bolesti, zanimanju...). U stvari, “stopa prevalencije” (kao i “kumulativna stopa incidencije i morbiditeta”) nije prava stopa, jer odražava odnos dela i celine, pa u stvari predstavlja proporciju, mada se u literaturi često naziva stop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Incidencija i morbidit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su osnovni pokazatelji obolevanja. Označavaj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oj novooboleli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d odredjene bolest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 odredjenom vremenskom period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ajčešće u toku jedne kalendarske godine) u strog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isanoj populacij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 izražavaju se na 1.000, 10.000 ili 100.000 stanovnika. Incidencija se izračunava kod hroničnih, dugotrajnih bolesti, a morbiditet kod kratkotrajnih, akutnih (najčešće zaraznih) bolesti. Ukoliko bolest dugo traje, u jednoj populaciji postoje osobe koje su se razbolele ranijih godina, ali i osobe koje su se razbolele tokom posmatrane godine. Da se ne bi stvorila zabuna oko izračunavanja stopa obolevanja, za sve novoobolele se izračunava stopa incidencije, a ukupan broj obolelih (i stari i novi slučajevi) se izražava “stopom” prevalencije. Kod zaraznih bolesti (koje najčešće imaju akutni tok, osim nosilaštva HIV virusa, virusa hepatitisa B i C, tuberkuloze i još nekih) broj novoobolelih se izražava morbiditeto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(Mb) =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. novoobolelih tokom godine X 1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j stanovnika tokom god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Primer incidenci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zračunati stopu incidencije  dijabetes melitusa u Niškom okrugu 1991. godine, kada je ukupni broj novoregistrovanih slučajeva iznosio 806, a broj stanovnika 39604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= 806x100.000 : 396043 = 203.5 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100.000 – konstanta (može da bude različita u zavisnosti od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veličine populacije: 100,  1000, 10.000, 100.000..., ali se najčešće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koristi 100.0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kle, na svakih 100.000 stanovnika u Okrugu posmatrane godine obolelo je 203.5 osob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6-12-27T18:27:03Z</dcterms:modified>
  <cp:revision>6</cp:revision>
  <dc:subject/>
  <dc:title>Statistika u epidemiologiji</dc:title>
</cp:coreProperties>
</file>