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355-6B2E-4DA6-AE78-AADDE863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41D-CDBE-48AA-8639-FEBC0CB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C45-91C9-42D8-9944-6A562247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30E-6E8D-4AE9-AAE9-79FFB92A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05E0-7CE7-4AE7-AD25-98639D07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320B-4AD2-4BE5-B0FD-D5D3C60C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CF0D-8609-4666-B8C8-4D2CF394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98BF-8C1E-4CB9-B289-56BEC163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1A18-1B4A-4CBE-9D91-56A36FDB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1C5C-B33C-4267-AB5A-945AA63B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EAAB-BA6F-4036-BBA2-76BB2C8D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8D6-59E8-4BAC-8988-9B08B1EA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F932-40F9-465A-8697-8721A1E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55B6-CAB8-4AE5-973A-92A9045F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6A49-237D-4423-A279-25C6BC0C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2029-AA8A-4A84-998F-1B81AFFC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9A9C-0580-45DA-9BAF-C9550882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B00-0349-440F-BBC1-47B25EC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B3A-4F0F-4614-A431-F2D86583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BF2-CC0D-47F2-8F2D-99F3C9A1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D4C-68FB-4005-B49E-F29E1BEC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E94-7868-4BC4-80F7-305CDA4F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897-3849-4BB3-A41C-03CDA74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D1A-61A5-4051-872D-111B34D2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F47F-551C-4A2D-912C-4ABADFF3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8BA5-AB7C-44E5-A584-2AB34990ABB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zinsek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zič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 se koriste sledeća fizička sredstva:plamen, iskuvavanje, vodena para i suva toplo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 sredstva imaju prednosti I m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men: uništavanje bezvrednih predmeta, otpad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kuvavanje je efikasno za materijale koji ga mogu podne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jali od kože, svile, vune, gume ne mogu se iskuvava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ena para je bila najpoznatije fizičko sredstvo za suzbijanje vektora (vaši tela) pegavog tifusa u I I II svetskom ra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štavanje vašiju i gnjida postiže se vodenom parom na temperaturi od 65 stepeni za 5 minu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 vremena ekspozicije i temerature povećava se efekat p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sme se izlagati 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 rublje koje je zaprljano krvlj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to je srpsko ili partizansko b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drveno bure, poklopac, odeća, izbušeno dno bureta, kazan sa vo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benzinsko bure, drveni poklopac, letvice ili granje za zaštitu odeće od zagrejanog zida bureta, odeća, rešetka, v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zinsekcija suvom toplotom obavlja se u aparatima koji mogu da izdrže razvoj visoke temerature (pegl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ogu da budu i prostorije/objekti koji mogu da izdrže visoku temeraturu: pekare, komore, sušnice voć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pozicija-izlaganje suvoj toploti iznosi 30 minu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komore mogu se upotrebljavati sve zatvorene prostorije u kojima se temperatura vazduha može zagrejati između 80 i 100 stepe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ore mogu da budu pokretne i nepokret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zemne komore-zemljanke. Greju se pomoću peći spol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se za dezinsekciju suvom toplotom u kućnim/bolničkim uslovima najviše koristi peg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 se uništile vaši i gnjide (vaš glave) moraju da se peglaju šavovi odeće sa nalič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o mogu da se unište i jaja moljaca i mu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ka temp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e dala zadovoljavajuće efekte, zato što ih artropode dobro podno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loš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tori, nematode, gljive, bakterije, virusi, alge i više bilj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predatora najviše se koriste neke vrste riba u suzbijanju komaraca, zato što se hrane larvama komara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e su u eradikaciji malarije u Izraelu, Turskoj, Grčkoj, Maroku, Alžiru, Rus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Makedoniji nije bilo rezultata, ali bilo je vrlo uspešno u oblasti Istre i Kvarnera. Niske temperature vode, jezera u Makedon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reporučuje se istovremena upotreba riba i insektici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skup mera i postupaka za uništavanje zglavkara, najčešće insekata, izvora i vektora transmisivnih zaraznih bolesti, kao i drugih štetnih insekata od medicinskog i higijenskog znača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ijska sred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rija razvoja i upotrebe insektici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vajaju se četiri perio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-primena prirodnih produk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duže je trajao, do 184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više su se upotrebljavale biljke-kukurek biljni produkti: nikotin i terpent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na ulj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en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i period-fumiganti, neorganske komponente i naftni deriva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ao je od 1854 do 1932. god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vom periodu je sintetizovan DDT (Zeindler, 1874. godin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li su primenu i ugljen disulfid, cijanovodonična kiselina, arsenati, produkti naf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ći period-moderni sintetski insekticid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1925 do 1962. god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više sintetizovano različitih organo- hlornih, organo fosfornih jedinjenj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 se i danas kori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 period-hormoni i feromoni. Od 1967. i danas tra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dela insekticida prema porek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jn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tski insekticidi neorgansk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tski insekticidi organsk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iljni insektici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ot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et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baz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en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ntetski insekticidi neorganskog porek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jenja ars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ntetski insekticidi organskog porek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najbrojn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hemijskom poreklu dele se 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hlorna, organofosforna, karbamatska, piretroidna, fumigantska, tiocijanatska, nitrofenolna, organsko-fluor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upstance slične insekticidima ili pojačavaju njihovo dejs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ivatori, atraktanti, repelenti, nosači insekticida, regulatori rasta, infibitori sinteze hit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dela prema načinu delovanja odnosno prodora u organizam insek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estivno, respiratorno (inhalaciono) i kontaktno dejst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estivno dejstvo ispoljava se kada insekticid prodre u organizam hranom ili vodo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ci pripremljeni sa atraktanti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jenja fluora, arsena, organofosforna jedinjenja, soli borne kise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Znača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3333cc"/>
                </a:solidFill>
                <a:latin typeface="Times New Roman"/>
              </a:rPr>
              <a:t>prečavanje i suzbijanje transmisivnih zaraznih bolest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Times New Roman"/>
              </a:rPr>
              <a:t>Borba protiv vektora-prenosilaca uzročnika transmisivnih bole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aksi insekticidi imaju kombinovano dejstvo (2) ili sva tri dejst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aktno dejstvo-kontakt tela insekta i podloge na kojoj je aplikovan insekti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fosforna jedinjenja, organo-hlorna, piretroidska jedinjenja i karbamatska jedinje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o (inhalaciono) preko disajnih org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kticidi iz ove grupe predstavljaju najjače otrove I njihova upotreba je ogranič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jan-vodonik, ugljen-dioksid, sumpor-diokdid, naftalin, etilen-oks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blici insektici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šiva, rastvori, emulzije, suspenzije, granule, tablete, mamci, paste, aerosoli i štapići za dimljen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da bude profilaktička i protivepidemijska m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našim zakonskim propisima dezinsekcija se vrši pri pojavi: pegavog tifusa, povratne groznice, kuge, malarije, vašiljvosti tela, zaraznog proliva (samo u slučaju pojave epidemije) i salmoneloz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ovodi se dezinsekcija ličnih predmeta, stambenih i drugih prostorija i prevoznih sredstav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lučaju pojave malarije sprovodi se i dezinsekcija naselja i okoline nasel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bog razvoja rezistencije artropoda potreban je planski  pristup u rešavanju suzbijanja štetnih artropoda uz korišćenje svih raspoloživ resursa pre primene hemijskih sredsta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e dezinsek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hanič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č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ij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hanič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im sredstvima uništavaju se insekti, menja im se sredina za razvoj i održavanje  ne zagđuje se životna sred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at ovih sredstava je ogranič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rinose smanjivanju broja artropo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šćenje, pranje, mlatilice, klopke, mreže, češljevi za depedikulacij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dikulacija-uništavanje vaš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0:12:54Z</dcterms:created>
  <dc:creator>AZURE</dc:creator>
  <dc:description/>
  <dc:language>en-US</dc:language>
  <cp:lastModifiedBy>Korisnik</cp:lastModifiedBy>
  <dcterms:modified xsi:type="dcterms:W3CDTF">2019-11-22T08:52:57Z</dcterms:modified>
  <cp:revision>23</cp:revision>
  <dc:subject/>
  <dc:title>Dezinsekcija</dc:title>
</cp:coreProperties>
</file>