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8CC1-D091-400D-BD89-542C4856D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0579-58BE-4813-AB5A-3851F598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27A1-6A1F-4AB6-BF87-B85C3404E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37E6-F247-4272-B686-D611FCA81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96312-7F1C-4AE8-989D-B0E6A83E6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D7C94-EDD8-400A-BE9F-94B6756B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6C585-32AD-416C-867D-27A4D5DB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106ED-2F3A-4230-9B40-E82A0BA1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83C2A4-D8D2-4A76-B0DF-1B9C8F5E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CD6110-C001-45E6-834B-560DF747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F2D87-5D26-484E-A545-2AFE06C5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96ED-450C-4E01-9CDE-553F8C79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9895B-8D84-4EAF-AB36-91135F4E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5084D-C378-492B-AE47-2A900DAF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8682D2-6B5D-4A0D-A7C5-27BF4AA3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58F61-6295-47A7-96FD-947F324ED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CECA3-0800-4A17-915C-CB6947DDD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FEEC-9382-49AC-85DC-D84F59B0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8AB6-B780-42A6-9EB9-8E32B0C1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96F6-9D2A-402F-846D-7F9EB32B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6A93-B533-4B73-A53E-FC7F5549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B5E9-6066-4251-85BE-88E40682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6107-AF76-4146-BE32-96CC2518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7A28-CFF8-4EC5-8A7C-CCC8B426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091B-58EE-4EEE-8C67-442238989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0F5D-0320-4C5F-8E2D-BFECAE5154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EPIDEMIOLOŠKA ANKET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t. dr s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med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Nataša Ranči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00"/>
                </a:solidFill>
                <a:latin typeface="Times New Roman"/>
              </a:rPr>
              <a:t>Alternativne tvrdnj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Lista ima niz odgovora, ali samo je jedan tač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Ko je predložio upotrebu kondoma pri poslednjem Vašem seksualnom odnosu sa vašim regularnim partnerom (suprug ili osoba sa kojom živite?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ja sam predloži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moj partn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odluka je zajednič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ne zn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Merne skale (rangiraju odgovore prema intenzitetu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U toku poslednjih mesec dana koliko često ste i.v. koristili drogu?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samo jednom (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2-3 puta (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jednom nedeljno (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2-3 puta nedeljno (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STRUKTURISAN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: sadrži određen broj ranije utvrđenih pitanj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NESTRUKTURISAN: nema unapred formulisana pitanja (ima primenu u kliničkoj praks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POLUSTRUKTURISAN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: delimično strukturisan, sem formulisanih pitanja ima i pitanja koja nisu unapred određe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Times New Roman"/>
              </a:rPr>
              <a:t>NAČIN PRIMENE UPTNIK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Intervj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Samostalno popunjavan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Pilotska stud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Times New Roman"/>
              </a:rPr>
              <a:t>Šta je epidemiološka anketa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Unapred formulisana grupa pitanja koja se koriste u prikupljanju podatak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Dobijaju se značajni podaci za ispitivanje određenog zdravstvenog proble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tkrivanje izvora zaraze i puteva prenošenja u epidemij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dentifikacija mesta i načina izlaganja zarazi ili otkrivanja uzroka, odnosno faktora rizik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Times New Roman"/>
              </a:rPr>
              <a:t>Kreiranje anket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lasična anketa (upitni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Elektronski-odgovori su kodirani i spremni za analizu (EPIINF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Anketa mora da sadrži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3300"/>
                </a:solidFill>
                <a:latin typeface="Times New Roman"/>
              </a:rPr>
              <a:t>Neophodan broj pitan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manjivanjem broja pitanja-sužavanjem ankete mogu da se izgube ključne informaci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Veliki broj pitanja-opširne (teže se prihvataju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Times New Roman"/>
              </a:rPr>
              <a:t>Kakva treba da budu pitanj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Jednostavna, jasna, razumljiv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Izbor pitanja zavisi od predmeta istraživanja, a sadržaj se određuje na osnovu cilja istraživanj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Svaki upitnik ima nekoliko celin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Opšti podaci: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ime i prezime, adresa, matični broj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00"/>
                </a:solidFill>
                <a:latin typeface="Times New Roman"/>
              </a:rPr>
              <a:t>Demografski podac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Podaci o obolevanaj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00"/>
                </a:solidFill>
                <a:latin typeface="Times New Roman"/>
              </a:rPr>
              <a:t>Podaci o izloženo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Lična i porodična anamne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00"/>
                </a:solidFill>
                <a:latin typeface="Times New Roman"/>
              </a:rPr>
              <a:t>Ostali podac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3300"/>
                </a:solidFill>
                <a:latin typeface="Times New Roman"/>
              </a:rPr>
              <a:t>TIPOVI ANKETE/UPITNIK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Otvoreni tip pitanj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Zatvoreni tip pitanj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cc00"/>
                </a:solidFill>
                <a:latin typeface="Times New Roman"/>
              </a:rPr>
              <a:t>Otvoreni tip pitanj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Nema ponuđene odgovo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Koristi se pri ispitivanju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nedovoljno poznate poja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kada postoje razlike u pojedinačnim iskustvim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kod odgovaranja na teža i delikatna pitan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kada treba utvrditi kako ispitanici percipiraju neku pojav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Primer: Šta ste jeli tokom jučerašnjeg dan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cc00"/>
                </a:solidFill>
                <a:latin typeface="Times New Roman"/>
              </a:rPr>
              <a:t>Zatvoreni tip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Sadrži određen broj ponuđenih odgovora za koje se ispitanik opredeljuj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Dihotomna: ponuđena su samo dva odgovora, modaliteta (DA/NE)ili (Tačno/Netačn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Multipla: ponuđeno je više mogućih odgovora (višestruki izbor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00"/>
                </a:solidFill>
                <a:latin typeface="Times New Roman"/>
              </a:rPr>
              <a:t>da, ne, ni malo;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00"/>
                </a:solidFill>
                <a:latin typeface="Times New Roman"/>
              </a:rPr>
              <a:t>uvek, ponekad, nikada;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00"/>
                </a:solidFill>
                <a:latin typeface="Times New Roman"/>
              </a:rPr>
              <a:t>da, ne, ne zn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Times New Roman"/>
              </a:rPr>
              <a:t>Lista provere ili kontrolna lis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Ima pitanje i niz ponuđenih odgov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Da li ste u toku svadbenog veselja jeli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rusku sala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tortu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ahoma"/>
              </a:rPr>
              <a:t>”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ahoma"/>
              </a:rPr>
              <a:t>Puslica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ahoma"/>
              </a:rPr>
              <a:t>"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slanu tortu sa majonez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sladol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1:00:42Z</dcterms:created>
  <dc:creator>Intel</dc:creator>
  <dc:description/>
  <dc:language>en-US</dc:language>
  <cp:lastModifiedBy>parazitologija1n</cp:lastModifiedBy>
  <dcterms:modified xsi:type="dcterms:W3CDTF">2014-06-23T08:08:47Z</dcterms:modified>
  <cp:revision>8</cp:revision>
  <dc:subject/>
  <dc:title>EPIDEMIOLOŠKI UPITNI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