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D3F-FB08-4D05-8AE8-19A6A8B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E9A-26C9-4D30-A3D5-441CDBD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E1E-1275-4C00-9FF7-08AB31F6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33C-593D-483F-919C-DF3D6CD3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9B197-72F9-42CC-82E4-13E47CC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20D7D-7EE2-4BEA-9C9E-C07085D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DB46-9E77-4A8A-B585-B73B2AE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07381-7655-463C-B0FF-9F264544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F05E-185F-4E80-88EA-975D177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F198B-9B99-48C2-A963-4B8DD7F6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FEA1B-88EB-4275-BEAE-E308372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F7E-C9FF-41AE-85D0-ECEC2164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CA41A-23DC-4FA2-9863-533A557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7D537-D986-4977-8103-D684E00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2D4A-9D7A-4919-A9AA-EE012C31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54F0-F246-48DC-A9C2-EADF20D7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E520D-EE5E-450B-82C3-BD5B0511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E23-7E4F-4968-BEC9-5A131243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F01-EA18-4076-8967-12D2A47D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881-EA1C-4B12-855D-627EC449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4F7-587C-447E-9C7D-6CDD362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CB2-239A-437F-806E-0F20C98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EAD-9B75-4BE5-BAD4-BEA17FB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E4F-9935-402D-ACBB-746CE59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A95-4A9E-4261-AF16-8A9188E0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AF2-FA4C-46FC-86BA-D5EA17F9A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29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Obavezna imunizacija lica određenog uzrasta </a:t>
            </a:r>
            <a:br>
              <a:rPr sz="4400"/>
            </a:b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(sistematska imunizacij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 započinje kad d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rši dva mese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i mora se završiti do navršenih šest meseci života dete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difterije, tetanusa, pertusi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se iz bilo kojih razloga vakcinacija  ne sprovede u roku ili se ne sprovede potpuno, dete će se vakcinisati u periodu i posle navršenih 12 meseci, a najkasnije do navršenih pet godina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menjuje se kombinovana DTaP vakcina u tri d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doza ne sme biti manji od 1 mesec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va vakcina sadrži prečišćene anatoksine difterije i tetanusa adsorbovane na aluminijum fosf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j imunizaciji protiv difterije, tetatunsa i pertusisa podležu sva deca od navršena dva meseca života do navršenih 18 godina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starija od pet godina ne primaju vakcinu protiv pertusisa, već samo protiv difterije i tetanusa i to sve do 18. godine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u posle navršenih 7 godina treba vakcinisati protiv difterije posebnom vakcinom za odrasle (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cija protiv tetanusa kao obavezna primenjuje se do navrešene 18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lučaju povrede primenjuje se i kod starijih od 18 god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Šema vakcinacije protiv difterije, tetanusa i pertus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I godina života-navršena dva mesec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daju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ri doze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P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 od po 0,5ml u propisa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ruga godina života-godinu dana posle komletne vakcinacij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a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 , daje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jedna doza DTaP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od 0,5 ml. To je prva revakcin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 upisu u prvi razred, odnosno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u 7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godini-vrši se druga revakcinacija 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o jednom doz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0,5ml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odnosno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4. godin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vrši se treća revakcinacija,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dT vakcine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8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godini vrši se četvrta revakcinacija i to 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TT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red opštih kontraindikacij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sebne kontraindikacije za vakcinaciju protiv velikog kašlja DT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 vakcinom su evolutivna neurološka oboljenja (nekontrolisana epilepsija, infantilni spazmi, progresivna encefalopati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dece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od navršenih pet do navršenih sedam godina života sprovodi s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DT vakcinom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lica starijih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od sedam godina sprovodi se kombinovanom vakcinom protiv difterije i tetanusa za odras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dT vakcin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dečje paraliz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a dva meseca do navršenih 1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kcinacija protiv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čije paralize sprovodi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živom oralnom polio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 daljem tekstu: OPV) i mrtvom, inaktivisanom polio vakcinom (u daljem tekstu: IPV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virusnog hepatitisa B (HB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sistematska aktivna imunizacija od 2004. za svu zdravu novorođenč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kombinovana vakcina, dobijena genetskim inžinjering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 j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va vakc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u dete prema u Srbiji prema važećim zakon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tska vakcinacija protiv VHB počinje već u porodiliš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započin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kad dete navrši dva mese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mora se završiti do šest meseci živo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V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rovodi s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e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razmacima koji ne mogu biti krać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šest nedelj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sim u slučaju utvrđene epidemiološke indikacije kada se može dati u razmaku od mesec 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Živa vakcina protiv dečje paralize (Sabinova vakcina) daje se per os i imitira prirodan način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davanja žive vakcine, vakcinalni virus  razmnožava se u digestivnom traktu 6 nedelja i izlučuje u spoljašnju sredinu. Na ovaj način digestivni trakt postaje otporan prema divljem polio virusu, a u  krvi se stvaraju cirkulišuć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ako je postignuta zaštita i od paralitičkih i od neparalitičkih oblika dečje parali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našoj zemlji primenjuje se kao obavezna sistematska vakcinacija od 1961.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vakcina daje se peroralno u dozi od 0,1ml ili 2 kapi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se ukapava direktno u usta dete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pojedinačnih doza ne sme biti manji od 42 da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Prva doza daje se čim dete navrši dva meseca i mora da se završi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va revakcinacija u drugoj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ruga revakcinacija u 7. godini, pri upisu u prvi raz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eća revakcinacija u 14. godini, odnosno u završn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a IPV sprovodi se u slučajevima imunodefinicije, a daje se 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 doze u razmaku koji ne može biti kraći od četiri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oliko do navršenih 12 meseci života vakcinacija deteta nije započeta primenom prve doze OPV, vakcinacija protiv dečije paralize sprovodi se davanjem prve doze IPV, a nastavlja se nakon mesec dana sa tri doze OPV u preporuče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malih boginja, parotitisa i rubeo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malih boginja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rotiti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crvenke-rubeol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ih 12 meseci do navršenih 14 god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binovane žive vakcine protiv malih boginja, zaušaka i crvenke - rubeole (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om sprovodi se kad dete navrši 12 meseci, a mora se sprovesti najkasnije do navršenih 15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vakcinacija se obavlja pri upisu u prvi razred osnovne škole, odnosno u 7.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i revakcinacija obavljaju se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MMR vakcine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 0,5ml. Vakcina se daje duboko potkožno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akutnog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irusnog B hepatit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sprovodi se vakcinom protiv hepatitisa B (HB vakcina)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ja j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izvede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odom genetskog inženjering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om se obuhvataj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akcinisana deca u 12 godini života, odnosno u šest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62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novorođenčadi sprovodi se davanjem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B vakcin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B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 u porodilištu u roku do 24 sata po rođen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vakcine deci koja nisu rođena u porodilištu mora se dati odmah u nadležnom domu zdravl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a doza vakcine daje se u razmaku koji ne sme biti kraći od mesec dana nakon prve doze HB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ma vakcinacije je 0, 1,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je i za svu decu u 6. razredu osnovne škole (propuštene generaci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ća doza vakcine daje se u razmaku ne kraćem od šest meseci nakon prve doze HB vakcine, odnosno ne kraćem od dva meseca nakon davanja druge d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mora se završiti najkasnije do navršenih 12 meseci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deca do 10 godina dobijaju pedijatrijsku dozu vakcine, a starija od 10 godina dobijaju dozu za odrasl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5 ml (pedijatrijska doza HB vakcine) intramuskularno u anterolateralni deo natkolenice (bed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isanje dece u 12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ini života, odnosno u šestom razredu osnovne škole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i doze H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za odrasl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,0 m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šemi 0,1 i 6. mesec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okom sedamdesetih i osamdesetih godina XX veka došlo je do povećanog obolevanja dece od meningitisa izazvanog Haemophilus-om influence, tipa B (Hib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olest izazvana Hib infekcijom najviše pogađa decu u najranijem uzrastu, do 5. godine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ma podacima naših autora, smrtnost od ovog obolenja u prvoj godini života je i od 18 do 3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ške neurološke sekvele ostaju kod 25-35% de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filusom influence tipa "B" sprovodi se konjugovanom vakcin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Hib vakcinom dec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uzrasta od navršena dva meseca do navršenih šest meseci života sprovodi se davanjem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 Hib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vakcine istovremeno sa dozama DTP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šest meseci živo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 razmaku koji ne sme biti kraći od mesec d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12 meseci života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edn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navršenih 24 meseci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b vakcina daje se intramuskularno u anterolateralni deo natkolenic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munizacija protiv Streptokokusa pneumon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dece uzrast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va mese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e se konjugovana polisahardidna vakcina u tri doze  sa razmacima između doza ne kraćim od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jednom dozom u drugoj godini života, najranije 6 meseci nakon kompletne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rimarna serija ne završi  do navršen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šest mesec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e do navršenih 24 meseca života, primenom predviđenog  broja doza 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očinje sa vakcinacijom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meseci,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kcine sa razmakom od najmanje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se sprovodi 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rugoj godin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om dozom konjugovane polisaharidne vakcine, najranije 6 meseci od kompletiranja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vakcinacija započinje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2-23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a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e sa razmakom od 8 nedelja. 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 se daje intramuskularno u deltoidni mišić, nadlakticu ili nadokolenic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navršena dva meseca do dve godine (kao sistematska imunizac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u se poliovalentna konjugovana vakcina-PCV 10 i PCV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V10 primenjuje se do navršenih 5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23-pneumokokna polisaharidna vakc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Vakcinacija protiv tuberkulo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provođenje obvezne vakcinacije u našoj zemlji počelo 194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vakcinaciju se korist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iva bakterijs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illus Calmette-Guerin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BC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avezna imunizacija protiv tuberkuloze sprovodi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ciljem sprečavanja određenih kliničkih oblika tuberkuloze (tuberkulozni meningitis, diseminovani oblici tuberkuloz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 se vakcinišu deca u prvoj godini života (bez tuberkulinskog testiran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rođena u porodilištima vakcinišu se BCG vakcinom pri otpustu, a deca koja su rođena van porodilišta moraju da se vakcinišu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aplikacije BCG vakc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u jednoj dozi, strogo intradermalno u predeo deltoidnog mišića leve na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a uzrasta do 12 meseci dobijaju dozu od 0,05ml, a starija 0,1m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java vakcinalnog ožiljka na mestu vakcinacije prečnika od najmanje 3mm, znak je uspeš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ola vakcinalnog ožilj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rši se 3 do 6 meseci posle aplikacije BCG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o vakcinisano dete nema ožiljak ili je manji od 3mm, dete mora ponovo da se vakciniš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BCG vakcinom i kontrola vakcinalnog ožiljka u našem gradu,  obavlja se u Antituberkuloznom dispanze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uberkulinsko testir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o testiranje sprovodi se intradermalnim ubrizgavanjem tuberkulinskog preparata PPD u dozi od 0,1ml u prednju stranu leve po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ita se posle 72 do 96 sa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gativna reakcija: indurat promera 5mm i m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labo pozitivna: promer indurata 6 do 10m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red opštih kontraindikacija, posebna je HIV infekcija i drugi poremećaji celularnog imunite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Postvakcinaln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komplikacija posle davanja BCG vakcine je pojava besežita (gnojne ulceracije i zapalenje okolnih limfnih žlezd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9:25:32Z</dcterms:created>
  <dc:creator>Intel</dc:creator>
  <dc:description/>
  <dc:language>en-US</dc:language>
  <cp:lastModifiedBy>Korisnik</cp:lastModifiedBy>
  <dcterms:modified xsi:type="dcterms:W3CDTF">2019-08-23T11:42:52Z</dcterms:modified>
  <cp:revision>42</cp:revision>
  <dc:subject/>
  <dc:title>Obavezna imunizacija lica određenog uzrasta  (sistemska imunizacij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