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CEF-DCA5-4FFC-A0BC-D7B377A4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D9A-1477-484E-8B4C-2FD71398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136-296B-43BE-AED3-F03AB339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955-CD06-4237-B1C4-4C8DA476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ABA2E-A78B-4A5B-8404-768BFB13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E124A-D8BB-4205-B205-00F6A78E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9FDF9-1FE9-441A-B269-7DEAC456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81BAD-F262-4DAD-98F3-0DF813C7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D9251-8CFF-4BF6-AD54-C74F326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0D855-9854-43B2-AAC0-214C9BDD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7DD11-B7F6-4DCF-B9EF-56DF7DA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D61-67BB-4F99-8ECB-03EB079A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D1884-8263-4CF3-868F-E30233E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B31CA-DDED-4E9A-93C1-CC5E7FF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FC378-8100-4E88-9026-693D8F7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C4845-3D9D-4149-BFA0-BB150CDE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982E-E7D8-441C-8B9D-118AEE33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CA0-249F-4565-8360-D6EA9931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967-E947-4ED6-B00A-62833CE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098-E1C4-4902-AA75-3DCC7AE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8B4-DCB4-4335-B67A-1C54B4F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05A-CE87-40C1-A165-C53E9ED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B43-A3CE-4FFB-8519-8E255AE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865-F88D-4981-8156-B70171A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B75-61F1-4214-9DDF-E5D80725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270C-B343-43F1-8AA7-BF4FADBBD0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ktivn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 pasivn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munizacij</a:t>
            </a:r>
            <a:r>
              <a:rPr b="1" lang="sr-Latn-R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ica izloženih određenim zaraznim bolest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ške indikacije za aktivnu imunizaciju protiv virusnog hepatitisa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 partneri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ci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 narkoman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ćni kontakti sa HbsAg pozitivnim lic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u ustanovama za izvršenje kaznenih sank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li od hemofil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li od insulin zavisnog dijabetes melit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jenti na hemodijal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radnic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ivna imunizacija sprovodi se sa 3 doze po šemi 0,1,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iv besni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besnila sprovodi se savremenim inaktivisanim vakcinama protiv besnila za humanu upotrebu, proizvedenim na kulturi ćelija koje preporučuje SZO, sa potencijom od najmanje 2.5 I.J. po pojedinačnoj doz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ivna imunizacija protiv besnila sprovodi se primenom humanog antirabičkog imunoglobul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reekspoziciona vakcin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iv besnila sprovodi se kod lica koja su profesionalno izložena infekciji virusom besnila, i to: laboratorijski radnici koji su neposredno izloženi virusu besnila, veterinari, veterinarski tehničari, veterinarski higijeničari, zoohigijeničari, lovočuvari, šumari i preparatori životinja, krznari (lica koja odvajaju krzno sa leševa životinja i pripremaju ga za dalju upotrebu) i lica koja profesionalno dolaze u kontakt sa slepim mišev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kspoziciona vakcinacija protiv besnila sprovodi se davanjem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r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jedinačne doze vakcine protiv besnila u deltoidni mišić, naizmenično u naspramnu ruku, po šemi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0, 7. i 21 dan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ostekspozicio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ezna imunizacija protiv besnila 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la ili na drugi način ozledila besna ili na besnilo sumnjiva divlja ili domaća životinj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nepoznatog vlasnika, koji se ne mogu držati pod desetodnevnim veterinarskim nadzor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koji u toku deset dana od dana ozlede pokažu znake besnila, uginu, budu ubijeni ili odlutaju, a besnilo životinje se ne može isključiti laboratorijskim pregled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 koje se moglo zaraziti virusom besnila preko služokože ili oštećene kož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unizacija protiv besnila sprovodi se odmah po utvrđivanju indikacije, davanjem četiri doze vakcine protiv besnila u deltoidni mišić a kod male dece u anterolateralni deo natkolenice, intramuskularno, naizmenično u suprotni ekstremitet, po šem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, 3 7 i 1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ovremeno sa davanjem prve doze vakcine protiv besnila, u svim slučajevima, daje se jednokratno i humani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ntirabijsk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unoglobulin (u daljem tekstu: HRIG) u dozi od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20 I.J. na kilogra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sne m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infiltruje u ranu i oko rane, a ostatak potrebne količine daje se intramuskularno u glutealnu reg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aplikuje u svim slučajevima, bez obzira na vreme proteklo od ekspozicije virusu besn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može se dati najkasnije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8. da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oliko je antirabična zaštita započeta samo 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ola imuniteta obavezna je kod postekspoziciono potpuno vakcinisanih lica 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odu od 1-4 nedelje (u praksi posle 3 nedelje) posle poslednje date doz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titar antitela protiv besnila veći ili jednak 0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nije potrebna revakcina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titar niži od 0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J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 osoba se revakciniše jednom dozom vakc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irusni hepatiti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Besn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bušni tif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irusni hepatitis 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tovremeno sa imunizacijom protiv besnila sprovodi se imunizacija protiv tetanusa, u skladu sa ovim pravilnik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ktivna i pasivna imunizacija protiv tetanusa kod povređe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unizacija protiv tetanusa kod povređenih lica sprovodi se vakcinisanjem adsorbovanom TT vakcinom i humanim antitetanusnim imunoglobulinom (HTIG) na sledeći nač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manje od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eset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 dobijaju ni vakcinu ni HTI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više od deset 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bijaju jednu dozu TT vakcine i 250I.J. HTIG, odmah po povređivanju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a koja nisu vakcinisana, lica koja su nepotpuno vakcinisana ili nemaju dokaze o imunizaciji protiv tetanusa, dobijaju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i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ze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TT vak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vu dozu odmah, drugu dozu u razmaku ne kraćem od mesec dana, treću dozu šest meseci nakon druge doze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0,1,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a lica dobijaju i HTIG sa prvom dozom vakcine, odmah po povređivan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TT i HTIG daju se istovremeno, intramuskularno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trbušnog tifus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kod odraslih  dece starije od 2 godine jednom dozom inaktivisane (mrtve) polisaharidne vakcine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acija se sprovodi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akata-osoba koje žive u zajedničkom domaćinstvu sa kliconošama trbušnog tif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a koje rade u lošim higijenskim uslov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oslenih u komunalnim preduzećima na uklanjanju komunalnog otpada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nalizaciji, sahranjivanju i s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se sprovodi  nakon 3 godine od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virusnog hepatitisa 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kod odraslih i dece starije od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dina davanjem jedne doze inaktivisane virusne vakcin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venskih korisnika doz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lantacije jetr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a koje rade u lošim higijenskim uslovima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oslenih u komunalnim predizećima na uklanjanju komunalnog otpada, kanalizacije,sahranj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škaraca koji imaju seksualne odnose sa drugim muškarcima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cilju postizanja dugotrajne zaštite treba dati drugu dozu (buster)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1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i posle prve , najkasnije do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seci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utnog virusnog hepatitisa B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h partnera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ka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h narkoman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ćnih kontakata sa HbsAg pozitiv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u ustanovama za izvršenje kaznenih sank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usnog hepatitisa B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preekspoziciono i kod lica zaposlenih u zdravstvenim ustanovama (Obavezno od 1.4.2019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 akutnog virusnog hepatitisa B  sprovodi se s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 vakcine 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6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i od utvrđivanja indikacije.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 pasivna imunizacija protiv hepatitisa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ciono sprovodi se ko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orođenčadi HBSAg pozitivnih majki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koja su imala akcident sa infektivnim materijal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dnica sa oštećenjem jetre, ako su bile eksponirane infekc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protiv akutnog virusnog hepatitisa B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unizacija lica koja su imala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kcid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 infektivnim materijalom i vakcinacija novorođenčadi HbsAg pozitivnih majki sprovodi se sa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četiri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 šem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0, 1, 2. i 12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akcinisana i nepotpuno vakcinisana lica koja su imala akcident sa infektivnim materijalom (krv ili serum)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avezno se zaštićuju i intramuskularnim davanjem hepatitis B imunoglobulina (HBIG) u količini koju preporučuje proizvođač, odmah po akcidentu a najkasnije 12 sati od momenta akcid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vorođenčad HbsAg pozitivnih majk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orođenčad HbsAg pozitivnih majki obavezno se zaštićuju i intramuskularnim davanjem hepatitis B imunoglobulina (HBIG) u količini koju preporučuje proizvođač, odnosno rođenju, a najkasnije do 12 sati od  rođ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munizacij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cijenata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pre početka dijal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Aktivna imunizacija pacijenata p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panja na dijalizu sprovodi se sa po šemi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0, 1, 2. i 6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anje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vostruk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ze za određeni uzrast (8 doza vakcin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2:04Z</dcterms:created>
  <dc:creator>Intel</dc:creator>
  <dc:description/>
  <dc:language>en-US</dc:language>
  <cp:lastModifiedBy>Korisnik</cp:lastModifiedBy>
  <dcterms:modified xsi:type="dcterms:W3CDTF">2019-11-04T10:54:55Z</dcterms:modified>
  <cp:revision>37</cp:revision>
  <dc:subject/>
  <dc:title>Obavezna imunizacija lica eksponiranih određenim zaraznim bolestim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